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30.xml" ContentType="application/vnd.openxmlformats-officedocument.theme+xml"/>
  <Override PartName="/ppt/theme/theme42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389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</p:sldMasterIdLst>
  <p:sldIdLst>
    <p:sldId id="256" r:id="rId44"/>
    <p:sldId id="257" r:id="rId45"/>
    <p:sldId id="258" r:id="rId46"/>
    <p:sldId id="259" r:id="rId47"/>
    <p:sldId id="260" r:id="rId48"/>
    <p:sldId id="261" r:id="rId49"/>
    <p:sldId id="262" r:id="rId50"/>
    <p:sldId id="263" r:id="rId51"/>
    <p:sldId id="264" r:id="rId52"/>
    <p:sldId id="265" r:id="rId53"/>
    <p:sldId id="266" r:id="rId54"/>
    <p:sldId id="26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" Target="slides/slide1.xml"/><Relationship Id="rId45" Type="http://schemas.openxmlformats.org/officeDocument/2006/relationships/slide" Target="slides/slide2.xml"/><Relationship Id="rId46" Type="http://schemas.openxmlformats.org/officeDocument/2006/relationships/slide" Target="slides/slide3.xml"/><Relationship Id="rId47" Type="http://schemas.openxmlformats.org/officeDocument/2006/relationships/slide" Target="slides/slide4.xml"/><Relationship Id="rId48" Type="http://schemas.openxmlformats.org/officeDocument/2006/relationships/slide" Target="slides/slide5.xml"/><Relationship Id="rId49" Type="http://schemas.openxmlformats.org/officeDocument/2006/relationships/slide" Target="slides/slide6.xml"/><Relationship Id="rId50" Type="http://schemas.openxmlformats.org/officeDocument/2006/relationships/slide" Target="slides/slide7.xml"/><Relationship Id="rId51" Type="http://schemas.openxmlformats.org/officeDocument/2006/relationships/slide" Target="slides/slide8.xml"/><Relationship Id="rId52" Type="http://schemas.openxmlformats.org/officeDocument/2006/relationships/slide" Target="slides/slide9.xml"/><Relationship Id="rId53" Type="http://schemas.openxmlformats.org/officeDocument/2006/relationships/slide" Target="slides/slide10.xml"/><Relationship Id="rId54" Type="http://schemas.openxmlformats.org/officeDocument/2006/relationships/slide" Target="slides/slide11.xml"/><Relationship Id="rId55" Type="http://schemas.openxmlformats.org/officeDocument/2006/relationships/slide" Target="slides/slide1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55D2-2536-4419-A2E5-D039D637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7815-F6C1-44BA-AE93-BF7EADBA5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9E2AF-DFC3-4C5A-B6A7-95863CDB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34A7F-F81A-4441-A51E-F48075CF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4EA271-96B8-408D-BC68-2C04A2959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A661AF-EFF4-46C6-A16D-BF73E5CC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6D0CA5-74C7-4CCA-9079-8133766D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A58EE9-3EA4-4792-8F38-B042A5ED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FC5C69-9AA0-4431-892E-23ED04C9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D1F366-1DDC-4ECA-B860-A86A46A58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5B15A-AF38-4909-88B6-69D55E630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461C80-9D0C-46AE-AAAF-C042045E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6B6A-4105-4745-AD62-2B77A6419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62137A-6815-49A9-ACB8-F60177B00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02E69D-4DC1-42C8-A571-6A6C46132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57449E-117C-4B2B-8A62-CB05BFE8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599B9A-1015-4C94-B65D-32F727B6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E082BE-0FEA-4EA4-9C00-10B947E9E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F49EAA-BEEB-46D9-9769-FF515CA18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28EA5D-9326-4B95-8770-2B4E50A55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EC141-38B7-419B-8731-3CEC4C8D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B6356-C1E9-4152-926E-6A0CBEFE2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EA4151-40EB-42BA-A50F-CA65912AD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802B-BECE-46F6-B547-003288ECC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4FF47-1098-4168-9BEE-52902068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4F164-BC91-4416-A680-67CF0A672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A8FEF-9467-4479-B020-E9F81D4D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C327E2-E9C9-4092-AFA1-6F66B6F9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D12980-65A3-4373-9DE2-AE27E47C3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3F12C-393C-489F-89D7-DA23683B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E6DF38-7602-4D59-9230-1E048BAE6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F1EAC-3AB7-464B-88CF-A8217296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F68DF6-96D5-4015-B1ED-43E7E0A8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D3AF8-5DFB-44B9-BA6E-C5F8678E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F44C-A53C-4629-A9CD-7BF4FB1C8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051E00-157C-4B7C-9452-FFE9BA89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F11CBA-0889-4D7A-9ACC-C0AA19A5D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26E5D3-2BED-4670-9902-5ED565F8B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D65F82-882B-4D9A-8B65-5E1E10BDF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568D1E-8124-4BFD-A3D3-D565B4728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D00B93-A773-4D7B-9D81-CBAD6FB2C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D8312C-A5A9-4B3E-8D1E-B34A672D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CF3F21-F7F4-4DEC-9F66-3B4ED1D0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E77A0-BD5A-43E7-87C6-361BC75DD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87C719-F8D2-4FF0-825B-7BC1D931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EDDA-7A42-4F8D-8825-B42F527A7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4098DF-7981-4720-95D6-47EDE806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EC4185-FCD6-4D61-98F7-5340860E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56A5B-F14A-427C-8568-90ABC399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4D5F26-261A-4359-B645-40D1C9556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1AFC79-65E2-4B11-8856-DDA9720BA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F71F73-D0CB-482A-BB38-30C17D120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70EB0C-A7FC-440A-9FBD-C1691BBB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427D7C-6822-49A1-A460-75290778E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BC15B3-42A5-4190-AB2E-BD1533C6A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C64F0-C5BB-48C3-94A4-905F5DC8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5BD3C-F9EA-4652-8920-664251E21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0CE35C-C422-4C89-87A9-C875F5E0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E2FDF1-4D35-4AF2-BC77-20426BC2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F9BD53-81A1-4D6A-8357-D2B12FD0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396910-2F29-42B4-9CA2-D4404B60F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487266-AAF9-4C2E-8B5C-F56AC4529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35FE3F-DBD1-41DB-9182-0F676D7F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F6ED03-7BA0-4334-861F-9F6418B36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9C2822-16E7-490A-B1AE-D33E4966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876F98-9859-4376-A18E-6D959A5C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5451D4-A3B0-45B2-931C-C7E439AC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3256B-0F6F-40A8-9150-242F83C6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426A43-CCB5-42A9-AE0C-5AA4AB1D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AFB177-4249-43B8-B678-F5F9D01D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40044-549B-406A-A9DA-275292D9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8DF464-14BD-4CE1-80A6-AA2E11DA3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A3D0BE-748C-480F-AB76-1F5617C4A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DD2940-63B0-4F8B-95D3-53F704A5E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0D5B88-FEE9-4E31-96CA-25395227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C6C482-E5D8-465C-A322-12A5D0144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D00EBE-02EB-47AA-A27C-FF84BE7F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7468C2-AB06-4028-A9D2-2D51D0668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AD5D-6E24-4BF0-9DC5-26981D32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C3024C-5E1B-440C-B744-DBB1FEB3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7B672C9-AD23-473E-8A6E-6256B7BF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477205-0F7F-4E94-8C20-BF7E482F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7343B9-9143-4EFC-ABC7-84738910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5A9328-A1BF-43F0-97F5-273941DF0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93AF8F-C233-4C46-BFCF-5608887D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CC6FAD-5C41-4B1D-A528-B82F61A7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E2492F-5515-4085-8EA3-728BA48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0FADD0-15DE-4F6F-A259-BD2F2ED95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3B32AA-6364-44EB-A337-A2AED9C9A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53C2-030D-4ADE-9866-F77E1271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7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EB73EB-0131-4223-9E7C-BE88DC5A9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4FA2F4-3995-4EDF-8411-B6E33549C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F27988-54BF-4AD6-AE00-AED2FD3A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CDF896-9A70-40F0-8645-C750669A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EC7FF59-4AC4-4B90-A5D1-4170B182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EC76B5-6B37-4CE2-BCFD-2C9F188C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46591F-371F-4C48-81ED-36D273301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8E3123-CD64-4265-ADD5-FBC0E3DE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F5EBEDC-35A5-4E44-B054-E7862EF5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DBCBB0-0899-4070-801E-B8293DD4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3FCB-5C6B-4F6F-8AA9-A39EBD98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CD3E13-F3D1-47A7-BC73-9EE743682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FA90B5-344A-472C-8774-60C181670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A67BD7-DDAA-4978-80B9-AA6243B13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579A37-B4BD-4B97-B4E5-10A4C14B8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E415EF-2AEC-4821-86B0-1D2A13823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E8CFDC-3F8E-412E-A801-0D77ABCD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6B57E7-F651-4ED9-AB07-6B3C5849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767121-3847-4373-A32E-8CFAD04A3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1CA1AF-783F-488E-8F1D-BFD4C3055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F1B353-1779-4D3D-BDF7-EFBF4E5AA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F0C7-2892-4950-AFBA-5043FD8E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3C22-D363-48FB-938A-CCBE4C17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CCBEEB-3B5F-4139-8506-A2663E35D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4B60C7-42F0-480E-8FAB-83BF16E1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9CA54F9-29C3-4DD9-B674-0DCCE4559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DA25F4-8E48-497B-B14C-D9D2C478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731357-D02C-44F6-9606-A35796321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67869-4C9F-41BC-A4E2-AB869E011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FDCA29-44D6-41E7-9D1D-055A913C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B2805C-F790-4BEF-B73A-F75CCDD1D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FC6EAE-E300-4FCD-9FF0-014A4531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6603F0-5B27-4EC6-B5C1-07125990A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5471-D282-46B8-BEB9-7148791F7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4AFEC1-EA24-49E6-9FB5-101E1EA2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D72B68-6C24-45A6-9188-1C66E5CBD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EBAF49-C6F8-43A5-A504-12E36C4C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340E51-F185-4E8F-A4C5-7D801978E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25632A-7BD3-49E0-8E56-05FB5CC5D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8651D6-78A6-428E-8901-1F892DFE4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EC894E-E8E5-4283-81E1-742CBBA9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EB1014-955B-4BAD-8D33-09186D66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C62CD6-51CC-4166-B005-2DF175431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9A37E5-C16D-4D4F-BD58-509FABE6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1C71-557A-4C6E-819C-0002164A5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7573D0-D670-45A8-9995-0A83F680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EC3F09-DE40-4066-B0E9-F3AEA4FED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8295DB-234C-4490-A694-4CF7E8025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5D9249-13A4-4B54-BD71-3AFF9B8C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279FB4-ADC2-4603-8771-473C0DFD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2EC798-B7E2-4E0F-BEBD-7AB8CE7A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1B352D-59D2-4E83-BADC-FB3295054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742473-2A89-4502-BA1D-CD83C777E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6F5B69-C4DE-457E-8386-8CAA9BA24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E1D7E5-B7D5-400F-A621-B55211FC0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FD923-D685-4D87-A932-9FB04E551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D3E7F9-115E-4344-881F-03610502F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68050D-D20E-43E4-A563-5BADCE1E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9A7A25-12BF-40CB-A21D-AC3F6C09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4DB749-51D6-41B7-877F-1FF3265B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556B8F-FB2F-4744-91E2-DCAF9682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86EAED-703B-49E0-9FBC-4D00257F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1A3A6B-FF23-4B6A-89A1-5FB038BEB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E04B75-5409-4B4C-8DCD-2FC59F1B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A07AA7-6AFC-4CD0-A791-479ED1F9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BA0992-4865-4590-8379-79FF2F186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25CE-36CE-466C-97A8-F77B93D1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2DE048-788E-44C0-8AC3-89293564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534C81-0554-4E71-87EC-AC142C30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A56285-7F6F-49C0-8C16-06DB87E3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F6F864-1A0B-4B21-8BAF-978F17740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582A08-5CC3-4625-AD0A-B7AE9921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296619-23A9-4212-889E-C4F4F25C4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13D76D-7994-4896-B93C-622ADDE98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E622FFD-AF73-48D1-A7A0-E50E269A0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D749A99-D460-4F53-9ED8-3E0A3414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3C599C-92AC-4E71-A417-6F711D6A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4247C-66F5-4712-A83C-D5763678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289505E-F610-4934-B713-EE81F266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E1DC1A-4D2F-4DBD-BA90-5870F1659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665C8B-BF19-42CE-B040-A09E3C95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F7146D-5034-4A41-AAA8-596CCF8B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5C44E6-6464-476A-8FDC-CA7235A4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E9006E8-B05F-4E16-ABA6-446F7C561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0ED335-6E31-4483-9CAF-6B9D61927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ABF195-A04F-4A4F-A49D-153964394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E3AFFE-1C28-4F36-AE0C-76E292EA2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7736D6-39E8-4B39-840D-39ECCDAF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3CB97-DA2F-4537-A9F6-77B2A60F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0F1776-45E1-4098-8A66-7E2F6FB0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D1E49F-F402-450E-A770-3351206D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209F48-A324-486C-A863-7E51EB069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1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E149E9C-41CF-450E-AC78-F83844AE4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6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7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48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CD3FBF5-B12A-45C7-8147-2E87860B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4448AC7-DA7D-43B2-B504-CB6E49E8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F1E061-74BB-4817-B3F8-E67668C9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1C6D16-6D6A-4593-BA48-F65AD63C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6A1024-41FD-45FF-A5FE-7C71C5C8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5C7EA2-F193-40E9-A478-FB39298A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4CBF3-FABD-44A4-949A-5DDD1CE1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6F3516-D656-4F4C-A435-C26FACAD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A760B9-0410-45A9-8ACB-AF38E68E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6D354C-65B0-41B6-808E-228D16C7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F7E58C6-FFA9-482C-8315-D766BF59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AB5AFD-00B8-4D8A-B370-423F49E7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8789CF-B1F7-4E27-BB6D-601BF3CA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9E26A8A-14E9-42FE-9BAE-8BD8D285C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1799CA-CE2F-4DD7-894A-56203972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93DA0E-FDA5-44ED-9D99-0267834E7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992BD7-24A2-4A52-ACEC-2B2723D7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AD2EF-2FB7-427F-9BB4-6298C94E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706F2E6-3177-4CBF-9792-070FADDD9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F880D7-3942-41ED-A93F-7EB544F4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4D5B14-4A39-4346-AD77-EA68968D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0DB34C6-D5CB-4D07-BB54-D864FA3C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64E8ED-1825-41D9-8600-115DE3A1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EE904E-1ADC-4581-A36F-DF838E4F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CF1C0E8-8FB2-407D-B0C5-79A1339D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F697CD-265D-40F4-9AB1-102AFF4C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D7E855-043E-4B72-A9B4-0A33DAA6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308E3F-B70D-4924-A5D3-644508CB9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306BA-5026-4C88-AFC5-ADCC7F1E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D1C08B9-A1F6-4256-83FF-EE5F18EA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00999D-694B-48BB-A171-143866CA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3DF7F7-4E86-4DC3-8FA7-8AE3B5CEC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1993B0-6A2E-47CF-909F-B36DD2E3C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3AFB7B8-ECCF-45AA-B967-F53C7883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AA7B07-A47B-4148-90DC-3FD51795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00F145-F79E-4ECB-A460-A6EDE2703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FB9CE8-61B3-48FF-B6E1-4DD7981D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67A190-CBC1-4786-8D39-620C5CCF5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A32F96A-AC3E-49A9-84AE-062A2221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00B5-82FE-4968-B7F4-C7A873E3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1ABB3-79F9-4017-8269-689921DA0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D17F107-9D03-4149-BF67-E7260F6A8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685A21-861F-44D0-AAA1-5EEC414E9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6A95D4-9463-49D8-B7CB-5AD270A0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DA2FA5A-FD8A-44BB-87AC-653BB7FD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A782A32-704A-46FA-8948-D54F26EB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1AD132-6097-4611-9F60-5055E6FF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2326104-A316-479D-941F-06049F03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9C0AD2-C6D1-4141-B40E-8A0BF5E6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9AF595-9BB2-4FAA-B3FF-001B822B1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89AB84E-2DAE-49DB-9A53-C4C23E28D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820BC-3C10-4949-BA56-ABE4E1940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BAA1273-C5E4-485C-B32B-BBDB214A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A97FA1-B5DB-4B16-8A9A-C1F1110FA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060DD48-192E-40F7-BB4A-1C1173E5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C878F4-7927-4EA6-807D-6F14725F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DCFB9D-EE6C-4B90-B0F5-BB160B52B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84211A-8E07-47D1-8097-902ADA75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CF777EC-B386-4E0C-AF2B-9E20217B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822DC9A-6C4A-4666-B728-97E3DD65C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931A67E-7F16-4193-A36D-996AC4D0D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2BBFFA7-E0EB-4B05-AAC4-7F726530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6915B-6F67-4CA7-B98D-4F19C4DE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A9CE20-0F6F-45B8-B08E-5EA549529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9B79F7F-BC3D-4739-B008-58E723B9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5F63D78-8CA0-458A-B82B-744E4ACD5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8FA0D97-6E27-43C6-B33A-F7ACEAF3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F7B901-7FCB-4AAC-B4C7-51F9695D4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ABDF26C-899B-4954-AD5F-5AB6BFFC2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F8D9A7-CE26-4C75-9E02-FC1524390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BE6DDE2-78ED-496D-BF3F-174AC76D6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23D2D3-F865-421A-AD49-BCEF78A3C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E57541-4568-440A-9ADE-54F867445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52444-F746-43A9-986D-A5F558DA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0729BBE-EF13-4EEA-8F1E-1E5A1B07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4AA693-DD6D-4CA4-9061-2922B6530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FA8407-A26C-4075-9C80-1DB628B1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34ADD71-5AC5-4EC0-A547-3764300A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2C76A82-323A-4091-AB4C-5D41A5D6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545CA4-0B9D-43E0-AFAB-20CDBDBA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F810AE2-A461-4079-B5A8-DDF6B7008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300928-332C-45C8-8FF3-B66E49AE0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4359115-B65C-4E19-B849-E7E1E2D22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12AFAE-1B0B-4EFD-972F-67A7F1E7A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A0824-8848-4C17-A0A1-464C0CAF3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43B1E1-F280-43B8-A1EC-6B49625C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4F5136-2B14-4A4E-B255-D6CE10FF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63A1A4-1F83-4E2A-924F-FE99EB40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5E57422-F476-4455-AEC1-E18C0271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65895E3-F057-4DE7-9B30-2AA16792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47F94F-C7D0-4A46-96C4-E4FF4C84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9BE62E-9DBC-4E20-B570-E05EC5BD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258184-6AEF-425E-83C7-7488A134C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62C140-E8E9-4407-A9C8-AA8D00E70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CC8B801-C6A5-4098-96FA-EBA728DCB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3C94F-63AE-4552-8619-0E380EB4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F170CD6-5E32-4109-9A4A-507C5BE9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B4F891C-5373-4EA1-AF5F-EBBD7F0D1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FCC17B-63FE-467D-9135-7E352072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A796A9-B80A-4DE6-B4FA-258737FF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A963BEE-E47A-4537-BE38-9E24999F8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9A6ED6-F39F-4548-96BE-CD534B0D7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31DC0D1-6302-4FDF-8CC3-52D40F8E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ADD11D4-EF77-49A0-8DE3-2D160AC8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74A0D1-158A-4EDA-B34F-7ED4CAB8D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33D915-91B2-4EFC-926B-A1B95F32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8D2E9-5732-43C5-97D7-ABE81DB50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11BAC86-F824-40C6-848C-B53DA4C86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980B555-EBDC-48C2-AF08-BED42DB16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EA76C2C-4C99-47BD-B551-A57D111D7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4D4685-C879-47C1-B96E-5B4554B5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3FCAFA2-DAE1-4932-929E-8CCDF174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5AD2BE6-7912-4991-ACCD-447911AB1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C7EF51-B026-418C-861C-30A529A4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540167-09FF-4F9C-A25D-BDA8D712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3A95085-E928-4F39-8F08-73CCB6C4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5B62CC-B362-4E23-8098-5A9EB3E1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45583-6790-4E7F-84FD-65B203451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580DFC-1F5A-48D7-9A0A-ED8A3535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2D2C6D0-431B-4166-B44F-B6AD1D6B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09F36E-F4C7-4E0A-A151-E50333E1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DDD45A9-CF46-42C8-84C5-6410DF42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F2D3CE5-EF5C-4318-A2EB-BC92082A5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A0C5491-BA05-4AD9-9293-EA796C496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44916B-4487-42F7-B497-3EBC0239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D9BF36E-1D35-4C49-A78E-DAF913E3D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B3029BA-3FF0-430A-B761-AC0CA94C4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CB4D0DB-B42A-4A33-BAFD-A5EF66910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5B083A-8149-4BDA-930C-BE9C28D01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1CDC0A7-C6FF-4605-8CBD-66AD3429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B472F4-1921-48EA-A18D-976D9225F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BF854F-2ED6-459B-95E5-9C1BC580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DBAFDA-1207-4852-BD03-386DF5FC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780351F-224E-4824-A63B-6143ADDE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33C6245-0360-4C2B-A927-C6E84422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7F0608B-18DD-44DF-9ABC-36B2FC57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235161C-F697-4DD0-85EC-B3F46FA2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44FF051-29F7-4A64-AF46-042576D65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457F2F2-A6DF-4F41-8728-018E3B95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ED51F-E92D-4E32-A52C-07ABB817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95BC734-D978-42C6-B36A-953EA29E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BDFAEE0-41F1-493B-B64E-5BE452F6D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224F36-5684-4A23-851F-ADCC7DC3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DBA477-F5BF-46A8-9EAA-41454583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CBF7881-0F1A-415F-A6FD-B4214C604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7798F3-3E5D-4675-8510-033A4CC7D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E08029E-03C9-4DDE-8C1C-C62750893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C13F3E-EE8E-42AC-ACE0-F34884C5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0FEB585-5EF6-4BCB-8E3D-D2650F8A9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322E3B-17CD-4D13-BE49-CF66E6420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059-9F3A-458A-B583-B3D23977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B8E63-F48C-45D9-9928-3CC4F114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1891DF-F7F6-44BD-8D33-210609E88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423872-47CB-4537-A623-5DAC8424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CCC59DE-1019-4E4B-9CFF-A89DC6D4A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8648470-9346-4271-AB62-560B8DE8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BF56AF6-C0E4-42B4-9D84-ADEE8AF7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CD713DB-A7A2-46B4-A88C-C4F665D0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1C1206-0610-4E43-9136-B091D1C2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AE1E2E-1EC5-4083-910B-E6526276D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8651EAB-7078-4B89-A848-DF832F0F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0D3E3C3-1695-40BD-A393-F644BFA56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F4562-2996-4F44-8A4F-09C324729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76A4659-62F0-449A-942B-7DD4C715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083C43C-6D07-4E66-A80C-F3126CC2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105651-4AA7-409C-B421-D307B652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14B0F9-3DFF-48C4-BC95-075EF841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0117795-7A88-4CD2-AAA0-6E75789D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18CA7D9-80B0-408B-984D-0E261E5F0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58B03AE1-1C3C-4FFB-BE67-D50B0261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19F2168-E2C4-49CC-8721-712BA05AB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9BBEB8C-109C-46EC-8A37-115EA3A20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56890CB-41E9-4FE5-89A6-67C608393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84FD7-82D0-453B-A22B-8001F3113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9D1562E-1F5A-444A-AE8C-856923E4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004CB94-41B3-46B8-8373-3D4120550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73B42E-D311-4BA9-9CCA-5E1B0FCA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76C20AD-D32F-4C35-B65C-6F76D10D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3858A9-771B-498B-9CB8-E7A97E79A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2DF0995-CED9-4324-857C-4D9AAFF9B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36EE8E-308D-49D5-BC5C-12908376A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F548F1-8233-4DA6-8E1D-F7C30A501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3C4FE0B-F986-4FCA-B2DA-0B82702FC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7670D79-A0D8-46CD-A1F3-57B081AFF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BD6FE-C912-44CF-91E1-895C2A8B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8E4E45-585B-4D61-BFB8-B4B5AA29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845E0EE-D3E6-4D96-A037-A5E42AABC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CD13889-9E58-42AB-ABFD-AB4E3AEC8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CEFE86-58E8-447A-9351-E95B992F9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A2D528A-0458-4C0E-A409-214453DF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B621E58-2930-4AC5-98DD-A5313EE4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CD2FD4-17EB-4613-BB64-C488472C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13CF274-0AA5-4061-957A-27C30EAAC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8D718E-54B4-4348-89AA-53F77E915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A04809A-4D91-4E93-AC43-E49E0DCD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C3BBB-4FE5-413F-938D-6B4D62D0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3E9D50-CC2E-468B-A8E3-12E8E035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31A2795-6422-4F27-AA69-C837790D5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792E200-04A2-4FFE-AFD8-52441C461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1ACE9A-06A1-4EC2-AC5D-F57223F31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3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CEFCB33-0B1A-4A6F-8FC4-1138B7B81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2A154AB-D88C-4C81-80B0-411CFD7AC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4DBC782-F7D4-46A8-B3FA-62716BF5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B9FACE4-38A0-40DB-B3FA-152C6824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E70BC95-96CE-4427-A19A-81972112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C8E36D-E39C-4CC0-BEF0-311B7844C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2D3D0-BE40-437B-8A3A-C428ECD0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19091A-D328-4BB1-9744-3779CA71C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4A949D5-06AA-42A1-8379-3369F72B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1427E9F-3763-4BF4-BFFB-9FB96A1E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F6100CF-CE8C-4878-88B3-7F681FFED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F211E63-4A76-4AE5-86ED-3420BED5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1C1477-767E-4934-A80E-985C4B86E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0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6141B4A-DF1F-4155-BEE6-986BFE3F6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343BC0D-2741-48CA-B43D-69B5F7A0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59E388F-527E-40A6-B48B-A963D839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5444DD2-4AA2-4E4D-A3FD-1385D80E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0B3BA-59E0-4F0F-920F-E181053E1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00A4BBE-5074-40A0-9AF1-DF7BFC33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849EBFC-92E3-4BA6-B916-E4069EF36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2BC1B72-88A7-49D3-A13D-34B7D2F6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DC6525-02DA-4E2C-A10D-F61FA79D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8C625F4-F6B5-40E4-867D-CE8748C4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CDFD53B-AF26-497F-AD4D-74E04B73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0807648-67A3-469C-A5B9-DFBDB5C67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1EA1FA1-22E9-47BF-8095-894AC2FF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5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4B80615-DEBD-4182-8CA9-1A9CD6D19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30FA2A2-9B9F-4D16-83FC-85E093F2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2115D-FFC5-4595-BAA2-A153582A0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D3A8740-3A01-450B-98CC-1D0575AE5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EA2D0F9-A206-47F7-9E45-B829BDF72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F46698A-1749-425B-9915-D5062619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D1575BA-32E5-48C0-9FAB-1A1694A5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5949B06-ED08-4D13-808A-352EF61C7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D48CA2D-2084-4034-99FF-595DE08EE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9C93611-4F26-45F5-ADCE-12227DFCA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C02491D-EB4D-4BF6-9A21-ABE63890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7EBEE53-2631-492C-B182-E51DE94B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A2E3AE5-CE47-43CD-8F6C-C2964CC98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50269-FBF2-4506-BDC1-D2F7E71CE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5842395-4DEE-4D51-9B35-7FF8175F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4AE7AFC-8279-4ABF-91F5-84C91615C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B674550-5AA4-4292-8EA1-1B71460A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29F7E9B-7568-4A4D-8C17-0B209DA2B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851A987-33C4-4588-96D1-A598F6909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8144EBE-67B4-44A0-A834-9BDFB852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25047D8-F005-4886-B3C1-50D20AC33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1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9E86288-D86D-48B9-8AD5-A50024482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D4E8F4C-87BE-40A8-8DD5-4453CD73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2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458395B-9EE5-4F6B-B677-C30863A9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0BC16-7345-4369-AE6C-1F886C2B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630DD48-F64E-45E8-8B8A-9D3570FE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F83F7CC-104E-46C3-81FF-57705FCAA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AF0E695-B52F-4ECD-B650-69A95083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51D85F7-429C-4640-B1D6-9D5417DF3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5AC184-79EF-41DA-9074-BD9390B1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7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43A67F6-0A62-4E3D-8E5F-E46A8B9B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4B18DFD-79ED-4E82-B5E7-06241610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9560A75-F47E-4185-9D4D-55B31B883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3DE2F74-C01C-4372-95A1-F021FE2F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1AEFAB1-5FEB-4736-9138-444EB078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5368-DB18-4264-9F74-BE9C98FF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F6AE9-DABB-4CA6-A610-6E69DF065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051193A-53C3-453A-A422-CEFF3A85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8716D87-BC2B-41FE-AEDE-8F620EB8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D25ABD6-956E-44AC-B43E-56EF22CB7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48D419A-17F0-4671-8DF6-B14A2D9BC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D4BEFD6-B392-4C58-91E0-15EB5890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5CA32-B121-4658-BBAA-2BEF0ACA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5F4BD-E4D1-4D25-9371-BE83405B8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E5755-BAC5-42A2-8D1D-528C062F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070A3-663C-46EB-BAE2-E965F3DB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1FD65C-0EC7-4B91-B26E-6552DE88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20132-286A-4F7E-9A19-780094116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63C203-410F-4FA6-B20A-DC314C7A4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42529-2A0C-482E-8FE3-62E2BE51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EA67D-523A-4E7D-9539-2E0AE944E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6918-70C8-47EF-A1C2-4F7B3AD9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6AA1E-DBA3-48ED-B51A-25D062E23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57EC89-FA14-466C-83FC-AC0F6D2DB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7D833-0DC0-4B91-9A8A-BDB14043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283CB-7653-404C-8DAF-DF997E9AC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763F2-9392-4AF5-8C66-13F89B0F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69525C-0173-440C-B7CE-60DB3D144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2F5150-2606-4DB7-8AFE-F691CE09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DC14A-36BB-4E90-8D20-8DA3AFEA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BE619-3BA4-4A23-ABE0-97991DD8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D9A76-016F-4333-85BD-A15A5DD53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DFC7-AF2A-41B5-AC4D-658D8D5B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9C949-51B5-4115-963C-638AB99F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9261D-2195-4C0D-AEAB-04FE533CD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4ED2E-D24B-407D-A4FB-C54B08F10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6726E9-D26B-466F-ACCC-46D036800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A9AE1-909A-4120-AFAC-2810D160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A43703-8500-48EC-97FE-6A9A8105D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A7595-04C1-479E-8C6A-E90AEA4F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17A01-8B2C-4986-A886-8805E2E98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794100-22D0-412F-9599-EFF51789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17825-A306-4AE2-921A-D2137086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7451-16C7-4FE1-BA18-6F71CD09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852D23-FE26-46F7-8711-405E8378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38FE4-5769-4CBC-BB05-4520C734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2B5837-AFBA-44D4-B012-D0064A91F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F014C-FF40-4DAF-9617-8661DC942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18312-B98B-4370-8A3B-A2448B19F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B9F9A-3D27-4F10-BA99-EDF710885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4E42F0-9588-49B1-9516-88F7096F2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2896D-4854-4977-BB4D-381BFEA9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1B96BE-449C-41AC-9D1A-BE133B05D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9A058-56B2-40E2-94A4-59E18D713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7FAB6-8832-4528-BF16-DC59E81B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85D7C-C49B-429E-B185-E9CB4E97F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31E8E4-0603-4BA6-91CB-253CD14B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4F9EA-6781-45C8-92A5-8C49D11FF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BE5645-ECC7-4369-A244-BEE9DA9C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4C4A1-45F4-47E1-B7F3-26E0B2C8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3741F5-806F-4F3D-93DD-4F4267E52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D7746-170D-4800-9A34-25D1E5DD6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E0C9B4-CA98-41F4-A8A9-6D38CF8E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CD7543-0DA0-4324-A3ED-4E9663FA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0B2A09-C448-4784-B2B6-62756E3EA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8835C-5E8F-472E-B6A4-9ECF7B17E0E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2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2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8CF1B-083E-4971-9B31-CD7D09D8658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B50B-72B9-4DCB-A4BF-8ECD8D8B6D1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5" name="Group 1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566" name="Straight Connector 20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Straight Connector 23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Straight Connector 24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9" name="Group 25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570" name="Straight Connector 26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Straight Connector 27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Straight Connector 28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3" name="Group 29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574" name="Straight Connector 30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Straight Connector 31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Straight Connector 32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34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35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36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4AE4-A931-4169-B4CB-C8BF776E4E0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3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3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3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1929-F2D6-4783-9C0C-DE1F53D7A8A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dt" idx="4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ftr" idx="4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sldNum" idx="4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A78D0-158F-4ADE-B50F-D1EB185F7F8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 type="dt" idx="4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 type="ftr" idx="4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 type="sldNum" idx="4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67B9F-DE23-4B37-AC36-C5576938E7B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1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2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6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7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8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9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4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4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4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4966-933E-4E3E-A11E-3DD18F7D476D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4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3BB0D-76F6-4E09-88C5-FFDDA0707EC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4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5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6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7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8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1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2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3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884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87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888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91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892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 type="dt" idx="52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 type="ftr" idx="53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 type="sldNum" idx="54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E702-9E6F-43D5-A5CF-DCF56C13739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5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1BB9-A587-41C5-B049-3DCC0DA532B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20B6-EDA9-4B35-A251-63C556BA6FB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5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6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7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8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9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0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1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2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3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4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5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 type="dt" idx="5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 type="ftr" idx="5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 type="sldNum" idx="6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1B8DD-D207-4B71-BC22-08C1B1DFE9B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 type="dt" idx="6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 type="ftr" idx="6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 type="sldNum" idx="6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1C49-2532-4D6C-9295-7BB952E05D4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9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0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1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2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3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4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5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6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7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 type="dt" idx="6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 type="ftr" idx="6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 type="sldNum" idx="6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3B26E-2E58-4BBD-B810-5D9F75AE95B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 type="dt" idx="6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 type="ftr" idx="6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3" name="PlaceHolder 5"/>
          <p:cNvSpPr>
            <a:spLocks noGrp="1"/>
          </p:cNvSpPr>
          <p:nvPr>
            <p:ph type="sldNum" idx="6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4AABF-F05E-4273-BBC3-B463A84DB777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1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1202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5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1206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9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1210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dt" idx="70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ftr" idx="71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 type="sldNum" idx="72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1C816-28AD-43E9-A9F7-99E82FEBE542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dt" idx="7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ftr" idx="7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sldNum" idx="7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8483C-6770-4BE9-85BD-AE5C8C3271A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 type="dt" idx="7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 type="ftr" idx="7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PlaceHolder 5"/>
          <p:cNvSpPr>
            <a:spLocks noGrp="1"/>
          </p:cNvSpPr>
          <p:nvPr>
            <p:ph type="sldNum" idx="7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7485-C746-4CF0-A5C4-36A06CCF0AB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 type="dt" idx="7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 type="ftr" idx="8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 type="sldNum" idx="8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C6BB-273B-4C12-A948-44D92D1F314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 type="dt" idx="8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 type="ftr" idx="8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 type="sldNum" idx="8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0AE0C-CCF5-411C-8E28-40CBEBB23E0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 type="dt" idx="8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 type="ftr" idx="8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 type="sldNum" idx="8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18670-1CA9-4AD7-B0A2-41ED0D59551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047D-B147-4428-B578-8F6606D2096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9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1520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1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2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3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1524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7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1528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9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0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 type="dt" idx="88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 type="ftr" idx="89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 type="sldNum" idx="90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9B142-F369-4CA1-9FE1-19C9E7BD055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 type="dt" idx="9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 type="ftr" idx="9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PlaceHolder 5"/>
          <p:cNvSpPr>
            <a:spLocks noGrp="1"/>
          </p:cNvSpPr>
          <p:nvPr>
            <p:ph type="sldNum" idx="9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6DE4-886B-4D45-AC93-086AD9A11E8B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 type="dt" idx="9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 type="ftr" idx="9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PlaceHolder 5"/>
          <p:cNvSpPr>
            <a:spLocks noGrp="1"/>
          </p:cNvSpPr>
          <p:nvPr>
            <p:ph type="sldNum" idx="9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9245F-8A89-4B65-B441-7BBAF7369D4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 type="dt" idx="9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 type="ftr" idx="9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PlaceHolder 5"/>
          <p:cNvSpPr>
            <a:spLocks noGrp="1"/>
          </p:cNvSpPr>
          <p:nvPr>
            <p:ph type="sldNum" idx="9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4CACD-2A6E-43D8-9B0F-1A0CBCB07360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 type="dt" idx="10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 type="ftr" idx="10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 type="sldNum" idx="10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33C2-6EAA-48D2-9B05-4B30CA2A659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 type="dt" idx="10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 type="ftr" idx="10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PlaceHolder 5"/>
          <p:cNvSpPr>
            <a:spLocks noGrp="1"/>
          </p:cNvSpPr>
          <p:nvPr>
            <p:ph type="sldNum" idx="10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5DC6D-1C86-4263-8196-07E71B5EC33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7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1838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9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0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1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1842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3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4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45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1846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 type="dt" idx="106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 type="ftr" idx="107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3" name="PlaceHolder 5"/>
          <p:cNvSpPr>
            <a:spLocks noGrp="1"/>
          </p:cNvSpPr>
          <p:nvPr>
            <p:ph type="sldNum" idx="108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1CEB9-F07B-4D7E-8EED-11531E25DD1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 type="dt" idx="10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 type="ftr" idx="11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 type="sldNum" idx="11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284E6-D4BF-44CD-AFEE-B85ED6AA65E8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72" name="PlaceHolder 3"/>
          <p:cNvSpPr>
            <a:spLocks noGrp="1"/>
          </p:cNvSpPr>
          <p:nvPr>
            <p:ph type="dt" idx="11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PlaceHolder 4"/>
          <p:cNvSpPr>
            <a:spLocks noGrp="1"/>
          </p:cNvSpPr>
          <p:nvPr>
            <p:ph type="ftr" idx="11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PlaceHolder 5"/>
          <p:cNvSpPr>
            <a:spLocks noGrp="1"/>
          </p:cNvSpPr>
          <p:nvPr>
            <p:ph type="sldNum" idx="11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1158E-B12C-4A8B-B430-78A5BA2631F3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3" name="PlaceHolder 3"/>
          <p:cNvSpPr>
            <a:spLocks noGrp="1"/>
          </p:cNvSpPr>
          <p:nvPr>
            <p:ph type="dt" idx="11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PlaceHolder 4"/>
          <p:cNvSpPr>
            <a:spLocks noGrp="1"/>
          </p:cNvSpPr>
          <p:nvPr>
            <p:ph type="ftr" idx="11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PlaceHolder 5"/>
          <p:cNvSpPr>
            <a:spLocks noGrp="1"/>
          </p:cNvSpPr>
          <p:nvPr>
            <p:ph type="sldNum" idx="11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4688-B899-4EF5-8B30-EC550A61F2B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A2FFF-BA32-4898-A1AA-1F6581294EF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Rectangle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Rectangle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Rectangle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Rectangle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Rectangle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Rectangle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Rectangle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Rectangle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Rectangle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Rectangle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 type="dt" idx="11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 type="ftr" idx="11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PlaceHolder 5"/>
          <p:cNvSpPr>
            <a:spLocks noGrp="1"/>
          </p:cNvSpPr>
          <p:nvPr>
            <p:ph type="sldNum" idx="12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AFFB-6103-4D27-83E5-96C4E608DA2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 type="dt" idx="12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 type="ftr" idx="12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7" name="PlaceHolder 5"/>
          <p:cNvSpPr>
            <a:spLocks noGrp="1"/>
          </p:cNvSpPr>
          <p:nvPr>
            <p:ph type="sldNum" idx="12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9B2A-B812-4638-A453-1E36DEFB5101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3" name="Rectangle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4" name="Straight Connector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5" name="Group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2156" name="Straight Connector 20"/>
            <p:cNvSpPr/>
            <p:nvPr/>
          </p:nvSpPr>
          <p:spPr>
            <a:xfrm>
              <a:off x="8573040" y="12175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Straight Connector 23"/>
            <p:cNvSpPr/>
            <p:nvPr/>
          </p:nvSpPr>
          <p:spPr>
            <a:xfrm>
              <a:off x="8516880" y="12826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Straight Connector 24"/>
            <p:cNvSpPr/>
            <p:nvPr/>
          </p:nvSpPr>
          <p:spPr>
            <a:xfrm flipV="1">
              <a:off x="8573040" y="12823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9" name="Group 25"/>
          <p:cNvGrpSpPr/>
          <p:nvPr/>
        </p:nvGrpSpPr>
        <p:grpSpPr>
          <a:xfrm>
            <a:off x="8669160" y="1370160"/>
            <a:ext cx="129240" cy="131400"/>
            <a:chOff x="8669160" y="1370160"/>
            <a:chExt cx="129240" cy="131400"/>
          </a:xfrm>
        </p:grpSpPr>
        <p:sp>
          <p:nvSpPr>
            <p:cNvPr id="2160" name="Straight Connector 26"/>
            <p:cNvSpPr/>
            <p:nvPr/>
          </p:nvSpPr>
          <p:spPr>
            <a:xfrm>
              <a:off x="8726040" y="1370160"/>
              <a:ext cx="723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Straight Connector 27"/>
            <p:cNvSpPr/>
            <p:nvPr/>
          </p:nvSpPr>
          <p:spPr>
            <a:xfrm>
              <a:off x="8669160" y="1435320"/>
              <a:ext cx="10224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Straight Connector 28"/>
            <p:cNvSpPr/>
            <p:nvPr/>
          </p:nvSpPr>
          <p:spPr>
            <a:xfrm flipV="1">
              <a:off x="8726040" y="1434960"/>
              <a:ext cx="723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3" name="Group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2164" name="Straight Connector 30"/>
            <p:cNvSpPr/>
            <p:nvPr/>
          </p:nvSpPr>
          <p:spPr>
            <a:xfrm>
              <a:off x="8377920" y="1473120"/>
              <a:ext cx="7200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Straight Connector 31"/>
            <p:cNvSpPr/>
            <p:nvPr/>
          </p:nvSpPr>
          <p:spPr>
            <a:xfrm>
              <a:off x="8321760" y="1538280"/>
              <a:ext cx="1018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Straight Connector 32"/>
            <p:cNvSpPr/>
            <p:nvPr/>
          </p:nvSpPr>
          <p:spPr>
            <a:xfrm flipV="1">
              <a:off x="8377920" y="1537920"/>
              <a:ext cx="7200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 type="dt" idx="124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PlaceHolder 4"/>
          <p:cNvSpPr>
            <a:spLocks noGrp="1"/>
          </p:cNvSpPr>
          <p:nvPr>
            <p:ph type="ftr" idx="125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PlaceHolder 5"/>
          <p:cNvSpPr>
            <a:spLocks noGrp="1"/>
          </p:cNvSpPr>
          <p:nvPr>
            <p:ph type="sldNum" idx="126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F6E0-9E52-4E77-B8E8-085B51B70B15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5E49B-5621-4B5C-9FDC-CEE3F79B5FCE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CE14A-B487-437F-B1B6-4176DEC3BF5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Rectangle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Rectangle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Rectangle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Rectangle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Rectangle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Rectangle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Rectangle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9F7D6-2E0E-49DA-9959-D3F96A48707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Freeform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Freeform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Freeform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Freeform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Freeform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Freeform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Freeform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Freeform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Freeform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Freeform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Freeform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Freeform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Freeform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Freeform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Freeform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Rectangle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Rectangle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Rectangle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Rectangle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Rectangle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Rectangle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F7DE3-980E-424F-8BB8-E7C87555AB96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5B44-E1CE-4503-A005-13CDCCD20289}" type="slidenum">
              <a:rPr b="0" lang="en-US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9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6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8" name="Title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2209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rIns="900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Science Review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9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0" name="Oval 10" hidden="1"/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1" name="TextBox 2"/>
          <p:cNvSpPr/>
          <p:nvPr/>
        </p:nvSpPr>
        <p:spPr>
          <a:xfrm>
            <a:off x="3924360" y="2436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ystem is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2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Digestiv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3" name="Action Button: Custom 4"/>
          <p:cNvSpPr/>
          <p:nvPr/>
        </p:nvSpPr>
        <p:spPr>
          <a:xfrm>
            <a:off x="0" y="5473800"/>
            <a:ext cx="2768760" cy="1218960"/>
          </a:xfrm>
          <a:custGeom>
            <a:avLst/>
            <a:gdLst>
              <a:gd name="textAreaLeft" fmla="*/ 78840 w 2768760"/>
              <a:gd name="textAreaRight" fmla="*/ 2689920 w 27687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9054" h="21600">
                <a:moveTo>
                  <a:pt x="0" y="0"/>
                </a:moveTo>
                <a:lnTo>
                  <a:pt x="49054" y="0"/>
                </a:lnTo>
                <a:lnTo>
                  <a:pt x="49054" y="21600"/>
                </a:lnTo>
                <a:lnTo>
                  <a:pt x="0" y="21600"/>
                </a:lnTo>
                <a:close/>
              </a:path>
              <a:path fill="lightenLess" w="49054" h="21600">
                <a:moveTo>
                  <a:pt x="0" y="0"/>
                </a:moveTo>
                <a:lnTo>
                  <a:pt x="49054" y="0"/>
                </a:lnTo>
                <a:lnTo>
                  <a:pt x="47654" y="1400"/>
                </a:lnTo>
                <a:lnTo>
                  <a:pt x="1400" y="1400"/>
                </a:lnTo>
                <a:close/>
              </a:path>
              <a:path fill="darken" w="49054" h="21600">
                <a:moveTo>
                  <a:pt x="49054" y="0"/>
                </a:moveTo>
                <a:lnTo>
                  <a:pt x="49054" y="21600"/>
                </a:lnTo>
                <a:lnTo>
                  <a:pt x="47654" y="20200"/>
                </a:lnTo>
                <a:lnTo>
                  <a:pt x="47654" y="1400"/>
                </a:lnTo>
                <a:close/>
              </a:path>
              <a:path fill="darkenLess" w="49054" h="21600">
                <a:moveTo>
                  <a:pt x="4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54" y="20200"/>
                </a:lnTo>
                <a:close/>
              </a:path>
              <a:path fill="lighten" w="4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Nervous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4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Endocr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Reprodu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Flowchart: Process 2"/>
          <p:cNvSpPr/>
          <p:nvPr/>
        </p:nvSpPr>
        <p:spPr>
          <a:xfrm>
            <a:off x="4114800" y="457200"/>
            <a:ext cx="4305240" cy="160020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Nervous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07" name="Picture 4" descr="C:\Users\DSU\AppData\Local\Microsoft\Windows\Temporary Internet Files\Content.IE5\N46ZUYAR\MC900028125[1].wmf"/>
          <p:cNvPicPr/>
          <p:nvPr/>
        </p:nvPicPr>
        <p:blipFill>
          <a:blip r:embed="rId2"/>
          <a:stretch/>
        </p:blipFill>
        <p:spPr>
          <a:xfrm>
            <a:off x="538200" y="422280"/>
            <a:ext cx="3043080" cy="2843280"/>
          </a:xfrm>
          <a:prstGeom prst="rect">
            <a:avLst/>
          </a:prstGeom>
          <a:ln w="0">
            <a:noFill/>
          </a:ln>
        </p:spPr>
      </p:pic>
      <p:sp>
        <p:nvSpPr>
          <p:cNvPr id="2308" name="Action Button: Forward or Next 1">
            <a:hlinkClick r:id="" action="ppaction://hlinkshowjump?jump=nextslide"/>
          </p:cNvPr>
          <p:cNvSpPr/>
          <p:nvPr/>
        </p:nvSpPr>
        <p:spPr>
          <a:xfrm>
            <a:off x="3657600" y="3265560"/>
            <a:ext cx="1371600" cy="849240"/>
          </a:xfrm>
          <a:custGeom>
            <a:avLst/>
            <a:gdLst>
              <a:gd name="textAreaLeft" fmla="*/ 54720 w 1371600"/>
              <a:gd name="textAreaRight" fmla="*/ 1316880 w 1371600"/>
              <a:gd name="textAreaTop" fmla="*/ 54720 h 849240"/>
              <a:gd name="textAreaBottom" fmla="*/ 794520 h 849240"/>
            </a:gdLst>
            <a:ahLst/>
            <a:rect l="textAreaLeft" t="textAreaTop" r="textAreaRight" b="textAreaBottom"/>
            <a:pathLst>
              <a:path w="34880" h="21600">
                <a:moveTo>
                  <a:pt x="0" y="0"/>
                </a:moveTo>
                <a:lnTo>
                  <a:pt x="34880" y="0"/>
                </a:lnTo>
                <a:lnTo>
                  <a:pt x="34880" y="21600"/>
                </a:lnTo>
                <a:lnTo>
                  <a:pt x="0" y="21600"/>
                </a:lnTo>
                <a:close/>
              </a:path>
              <a:path fill="lightenLess" w="34880" h="21600">
                <a:moveTo>
                  <a:pt x="0" y="0"/>
                </a:moveTo>
                <a:lnTo>
                  <a:pt x="34880" y="0"/>
                </a:lnTo>
                <a:lnTo>
                  <a:pt x="33480" y="1400"/>
                </a:lnTo>
                <a:lnTo>
                  <a:pt x="1400" y="1400"/>
                </a:lnTo>
                <a:close/>
              </a:path>
              <a:path fill="darken" w="34880" h="21600">
                <a:moveTo>
                  <a:pt x="34880" y="0"/>
                </a:moveTo>
                <a:lnTo>
                  <a:pt x="34880" y="21600"/>
                </a:lnTo>
                <a:lnTo>
                  <a:pt x="33480" y="20200"/>
                </a:lnTo>
                <a:lnTo>
                  <a:pt x="33480" y="1400"/>
                </a:lnTo>
                <a:close/>
              </a:path>
              <a:path fill="darkenLess" w="34880" h="21600">
                <a:moveTo>
                  <a:pt x="34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0" y="20200"/>
                </a:lnTo>
                <a:close/>
              </a:path>
              <a:path fill="lighten" w="34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0" h="21600">
                <a:moveTo>
                  <a:pt x="10434" y="3794"/>
                </a:moveTo>
                <a:lnTo>
                  <a:pt x="24447" y="10800"/>
                </a:lnTo>
                <a:lnTo>
                  <a:pt x="10434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0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1" name="Oval 10" hidden="1"/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2" name="TextBox 2"/>
          <p:cNvSpPr/>
          <p:nvPr/>
        </p:nvSpPr>
        <p:spPr>
          <a:xfrm>
            <a:off x="3924360" y="2436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is frui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3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rbel"/>
              </a:rPr>
              <a:t>Apple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4" name="Action Button: Custom 4"/>
          <p:cNvSpPr/>
          <p:nvPr/>
        </p:nvSpPr>
        <p:spPr>
          <a:xfrm>
            <a:off x="0" y="5473800"/>
            <a:ext cx="2768760" cy="1218960"/>
          </a:xfrm>
          <a:custGeom>
            <a:avLst/>
            <a:gdLst>
              <a:gd name="textAreaLeft" fmla="*/ 78840 w 2768760"/>
              <a:gd name="textAreaRight" fmla="*/ 2689920 w 27687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9054" h="21600">
                <a:moveTo>
                  <a:pt x="0" y="0"/>
                </a:moveTo>
                <a:lnTo>
                  <a:pt x="49054" y="0"/>
                </a:lnTo>
                <a:lnTo>
                  <a:pt x="49054" y="21600"/>
                </a:lnTo>
                <a:lnTo>
                  <a:pt x="0" y="21600"/>
                </a:lnTo>
                <a:close/>
              </a:path>
              <a:path fill="lightenLess" w="49054" h="21600">
                <a:moveTo>
                  <a:pt x="0" y="0"/>
                </a:moveTo>
                <a:lnTo>
                  <a:pt x="49054" y="0"/>
                </a:lnTo>
                <a:lnTo>
                  <a:pt x="47654" y="1400"/>
                </a:lnTo>
                <a:lnTo>
                  <a:pt x="1400" y="1400"/>
                </a:lnTo>
                <a:close/>
              </a:path>
              <a:path fill="darken" w="49054" h="21600">
                <a:moveTo>
                  <a:pt x="49054" y="0"/>
                </a:moveTo>
                <a:lnTo>
                  <a:pt x="49054" y="21600"/>
                </a:lnTo>
                <a:lnTo>
                  <a:pt x="47654" y="20200"/>
                </a:lnTo>
                <a:lnTo>
                  <a:pt x="47654" y="1400"/>
                </a:lnTo>
                <a:close/>
              </a:path>
              <a:path fill="darkenLess" w="49054" h="21600">
                <a:moveTo>
                  <a:pt x="4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54" y="20200"/>
                </a:lnTo>
                <a:close/>
              </a:path>
              <a:path fill="lighten" w="4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Tomat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5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rbel"/>
              </a:rPr>
              <a:t>Lettuce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6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Mango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7" name="Flowchart: Process 2"/>
          <p:cNvSpPr/>
          <p:nvPr/>
        </p:nvSpPr>
        <p:spPr>
          <a:xfrm>
            <a:off x="4114800" y="457200"/>
            <a:ext cx="4305240" cy="160020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Tomato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18" name="Picture 4" descr="C:\Users\DSU\AppData\Local\Microsoft\Windows\Temporary Internet Files\Content.IE5\Y1P5VRFW\MP900439292[1].jpg"/>
          <p:cNvPicPr/>
          <p:nvPr/>
        </p:nvPicPr>
        <p:blipFill>
          <a:blip r:embed="rId2"/>
          <a:stretch/>
        </p:blipFill>
        <p:spPr>
          <a:xfrm>
            <a:off x="723960" y="457200"/>
            <a:ext cx="3200400" cy="2143080"/>
          </a:xfrm>
          <a:prstGeom prst="rect">
            <a:avLst/>
          </a:prstGeom>
          <a:ln w="0">
            <a:noFill/>
          </a:ln>
        </p:spPr>
      </p:pic>
      <p:sp>
        <p:nvSpPr>
          <p:cNvPr id="2319" name="Action Button: Forward or Next 1">
            <a:hlinkClick r:id="" action="ppaction://hlinkshowjump?jump=nextslide"/>
          </p:cNvPr>
          <p:cNvSpPr/>
          <p:nvPr/>
        </p:nvSpPr>
        <p:spPr>
          <a:xfrm>
            <a:off x="3657600" y="3352680"/>
            <a:ext cx="1447920" cy="762120"/>
          </a:xfrm>
          <a:custGeom>
            <a:avLst/>
            <a:gdLst>
              <a:gd name="textAreaLeft" fmla="*/ 49320 w 1447920"/>
              <a:gd name="textAreaRight" fmla="*/ 1398600 w 14479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1028" h="21600">
                <a:moveTo>
                  <a:pt x="0" y="0"/>
                </a:moveTo>
                <a:lnTo>
                  <a:pt x="41028" y="0"/>
                </a:lnTo>
                <a:lnTo>
                  <a:pt x="41028" y="21600"/>
                </a:lnTo>
                <a:lnTo>
                  <a:pt x="0" y="21600"/>
                </a:lnTo>
                <a:close/>
              </a:path>
              <a:path fill="lightenLess" w="41028" h="21600">
                <a:moveTo>
                  <a:pt x="0" y="0"/>
                </a:moveTo>
                <a:lnTo>
                  <a:pt x="41028" y="0"/>
                </a:lnTo>
                <a:lnTo>
                  <a:pt x="39628" y="1400"/>
                </a:lnTo>
                <a:lnTo>
                  <a:pt x="1400" y="1400"/>
                </a:lnTo>
                <a:close/>
              </a:path>
              <a:path fill="darken" w="41028" h="21600">
                <a:moveTo>
                  <a:pt x="41028" y="0"/>
                </a:moveTo>
                <a:lnTo>
                  <a:pt x="41028" y="21600"/>
                </a:lnTo>
                <a:lnTo>
                  <a:pt x="39628" y="20200"/>
                </a:lnTo>
                <a:lnTo>
                  <a:pt x="39628" y="1400"/>
                </a:lnTo>
                <a:close/>
              </a:path>
              <a:path fill="darkenLess" w="41028" h="21600">
                <a:moveTo>
                  <a:pt x="410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628" y="20200"/>
                </a:lnTo>
                <a:close/>
              </a:path>
              <a:path fill="lighten" w="410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028" h="21600">
                <a:moveTo>
                  <a:pt x="13507" y="3794"/>
                </a:moveTo>
                <a:lnTo>
                  <a:pt x="27520" y="10800"/>
                </a:lnTo>
                <a:lnTo>
                  <a:pt x="13507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Rectangle 30"/>
          <p:cNvSpPr/>
          <p:nvPr/>
        </p:nvSpPr>
        <p:spPr>
          <a:xfrm>
            <a:off x="609480" y="6324480"/>
            <a:ext cx="152640" cy="228600"/>
          </a:xfrm>
          <a:prstGeom prst="rect">
            <a:avLst/>
          </a:prstGeom>
          <a:solidFill>
            <a:srgbClr val="7fd13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1" name="Text Box 21"/>
          <p:cNvSpPr/>
          <p:nvPr/>
        </p:nvSpPr>
        <p:spPr>
          <a:xfrm>
            <a:off x="0" y="5867280"/>
            <a:ext cx="281952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werPoint Design by Jim Luther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uther@cftd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lick The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?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Buttons For More Inf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2" name="Rectangle 2"/>
          <p:cNvSpPr/>
          <p:nvPr/>
        </p:nvSpPr>
        <p:spPr>
          <a:xfrm>
            <a:off x="609480" y="1219320"/>
            <a:ext cx="5410440" cy="2057400"/>
          </a:xfrm>
          <a:prstGeom prst="rect">
            <a:avLst/>
          </a:prstGeom>
          <a:solidFill>
            <a:srgbClr val="0000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Scan Ty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3" name="Rectangle 3"/>
          <p:cNvSpPr/>
          <p:nvPr/>
        </p:nvSpPr>
        <p:spPr>
          <a:xfrm>
            <a:off x="609480" y="3276720"/>
            <a:ext cx="5410440" cy="1371600"/>
          </a:xfrm>
          <a:prstGeom prst="rect">
            <a:avLst/>
          </a:prstGeom>
          <a:solidFill>
            <a:srgbClr val="0000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can Tim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 Seconds f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ingle Swit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can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4" name="Text Box 9"/>
          <p:cNvSpPr/>
          <p:nvPr/>
        </p:nvSpPr>
        <p:spPr>
          <a:xfrm>
            <a:off x="609480" y="228600"/>
            <a:ext cx="5410440" cy="825120"/>
          </a:xfrm>
          <a:prstGeom prst="rect">
            <a:avLst/>
          </a:prstGeom>
          <a:solidFill>
            <a:srgbClr val="0000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</a:rPr>
              <a:t>Scan Setup Slid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5" name="Rectangle 11"/>
          <p:cNvSpPr/>
          <p:nvPr/>
        </p:nvSpPr>
        <p:spPr>
          <a:xfrm>
            <a:off x="6172200" y="228600"/>
            <a:ext cx="2590920" cy="4419720"/>
          </a:xfrm>
          <a:prstGeom prst="rect">
            <a:avLst/>
          </a:prstGeom>
          <a:solidFill>
            <a:srgbClr val="0000ff"/>
          </a:solidFill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6" name="Text Box 12"/>
          <p:cNvSpPr/>
          <p:nvPr/>
        </p:nvSpPr>
        <p:spPr>
          <a:xfrm>
            <a:off x="6324480" y="4572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oose S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ap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7" name="Rectangle 32"/>
          <p:cNvSpPr/>
          <p:nvPr/>
        </p:nvSpPr>
        <p:spPr>
          <a:xfrm>
            <a:off x="609480" y="4806000"/>
            <a:ext cx="3276720" cy="368280"/>
          </a:xfrm>
          <a:prstGeom prst="rect">
            <a:avLst/>
          </a:prstGeom>
          <a:solidFill>
            <a:srgbClr val="0000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er the name of the test taker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8" name="Action Button: Forward or Next 1">
            <a:hlinkClick r:id="" action="ppaction://hlinkshowjump?jump=nextslide"/>
          </p:cNvPr>
          <p:cNvSpPr/>
          <p:nvPr/>
        </p:nvSpPr>
        <p:spPr>
          <a:xfrm>
            <a:off x="7505640" y="617220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Oval 10" hidden="1">
            <a:hlinkClick r:id="rId2" action="ppaction://hlinksldjump"/>
          </p:cNvPr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TextBox 2"/>
          <p:cNvSpPr/>
          <p:nvPr/>
        </p:nvSpPr>
        <p:spPr>
          <a:xfrm>
            <a:off x="3924360" y="2436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is vegetabl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rbel"/>
              </a:rPr>
              <a:t>Peas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Action Button: Custom 4"/>
          <p:cNvSpPr/>
          <p:nvPr/>
        </p:nvSpPr>
        <p:spPr>
          <a:xfrm>
            <a:off x="0" y="5473800"/>
            <a:ext cx="2768760" cy="1218960"/>
          </a:xfrm>
          <a:custGeom>
            <a:avLst/>
            <a:gdLst>
              <a:gd name="textAreaLeft" fmla="*/ 78840 w 2768760"/>
              <a:gd name="textAreaRight" fmla="*/ 2689920 w 27687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9054" h="21600">
                <a:moveTo>
                  <a:pt x="0" y="0"/>
                </a:moveTo>
                <a:lnTo>
                  <a:pt x="49054" y="0"/>
                </a:lnTo>
                <a:lnTo>
                  <a:pt x="49054" y="21600"/>
                </a:lnTo>
                <a:lnTo>
                  <a:pt x="0" y="21600"/>
                </a:lnTo>
                <a:close/>
              </a:path>
              <a:path fill="lightenLess" w="49054" h="21600">
                <a:moveTo>
                  <a:pt x="0" y="0"/>
                </a:moveTo>
                <a:lnTo>
                  <a:pt x="49054" y="0"/>
                </a:lnTo>
                <a:lnTo>
                  <a:pt x="47654" y="1400"/>
                </a:lnTo>
                <a:lnTo>
                  <a:pt x="1400" y="1400"/>
                </a:lnTo>
                <a:close/>
              </a:path>
              <a:path fill="darken" w="49054" h="21600">
                <a:moveTo>
                  <a:pt x="49054" y="0"/>
                </a:moveTo>
                <a:lnTo>
                  <a:pt x="49054" y="21600"/>
                </a:lnTo>
                <a:lnTo>
                  <a:pt x="47654" y="20200"/>
                </a:lnTo>
                <a:lnTo>
                  <a:pt x="47654" y="1400"/>
                </a:lnTo>
                <a:close/>
              </a:path>
              <a:path fill="darkenLess" w="49054" h="21600">
                <a:moveTo>
                  <a:pt x="4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54" y="20200"/>
                </a:lnTo>
                <a:close/>
              </a:path>
              <a:path fill="lighten" w="4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Banan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rbel"/>
              </a:rPr>
              <a:t>Apple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Lettuce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18" name="Picture 5" descr="C:\Users\DSU\AppData\Local\Microsoft\Windows\Temporary Internet Files\Content.IE5\N46ZUYAR\MP900430738[1].jpg"/>
          <p:cNvPicPr/>
          <p:nvPr/>
        </p:nvPicPr>
        <p:blipFill>
          <a:blip r:embed="rId3"/>
          <a:stretch/>
        </p:blipFill>
        <p:spPr>
          <a:xfrm>
            <a:off x="216000" y="146160"/>
            <a:ext cx="2908080" cy="2896920"/>
          </a:xfrm>
          <a:prstGeom prst="rect">
            <a:avLst/>
          </a:prstGeom>
          <a:ln w="0">
            <a:noFill/>
          </a:ln>
        </p:spPr>
      </p:pic>
      <p:sp>
        <p:nvSpPr>
          <p:cNvPr id="2219" name="Flowchart: Process 2"/>
          <p:cNvSpPr/>
          <p:nvPr/>
        </p:nvSpPr>
        <p:spPr>
          <a:xfrm>
            <a:off x="4114800" y="457200"/>
            <a:ext cx="4305240" cy="160020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Banana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Action Button: Forward or Next 1">
            <a:hlinkClick r:id="" action="ppaction://hlinkshowjump?jump=nextslide"/>
          </p:cNvPr>
          <p:cNvSpPr/>
          <p:nvPr/>
        </p:nvSpPr>
        <p:spPr>
          <a:xfrm>
            <a:off x="3924360" y="3429000"/>
            <a:ext cx="1181160" cy="609480"/>
          </a:xfrm>
          <a:custGeom>
            <a:avLst/>
            <a:gdLst>
              <a:gd name="textAreaLeft" fmla="*/ 39240 w 1181160"/>
              <a:gd name="textAreaRight" fmla="*/ 1141920 w 1181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1848" h="21600">
                <a:moveTo>
                  <a:pt x="0" y="0"/>
                </a:moveTo>
                <a:lnTo>
                  <a:pt x="41848" y="0"/>
                </a:lnTo>
                <a:lnTo>
                  <a:pt x="41848" y="21600"/>
                </a:lnTo>
                <a:lnTo>
                  <a:pt x="0" y="21600"/>
                </a:lnTo>
                <a:close/>
              </a:path>
              <a:path fill="lightenLess" w="41848" h="21600">
                <a:moveTo>
                  <a:pt x="0" y="0"/>
                </a:moveTo>
                <a:lnTo>
                  <a:pt x="41848" y="0"/>
                </a:lnTo>
                <a:lnTo>
                  <a:pt x="40448" y="1400"/>
                </a:lnTo>
                <a:lnTo>
                  <a:pt x="1400" y="1400"/>
                </a:lnTo>
                <a:close/>
              </a:path>
              <a:path fill="darken" w="41848" h="21600">
                <a:moveTo>
                  <a:pt x="41848" y="0"/>
                </a:moveTo>
                <a:lnTo>
                  <a:pt x="41848" y="21600"/>
                </a:lnTo>
                <a:lnTo>
                  <a:pt x="40448" y="20200"/>
                </a:lnTo>
                <a:lnTo>
                  <a:pt x="40448" y="1400"/>
                </a:lnTo>
                <a:close/>
              </a:path>
              <a:path fill="darkenLess" w="41848" h="21600">
                <a:moveTo>
                  <a:pt x="41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48" y="20200"/>
                </a:lnTo>
                <a:close/>
              </a:path>
              <a:path fill="lighten" w="41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848" h="21600">
                <a:moveTo>
                  <a:pt x="13918" y="3794"/>
                </a:moveTo>
                <a:lnTo>
                  <a:pt x="27931" y="10800"/>
                </a:lnTo>
                <a:lnTo>
                  <a:pt x="13918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Oval 10" hidden="1">
            <a:hlinkClick r:id="rId2" action="ppaction://hlinksldjump"/>
          </p:cNvPr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TextBox 2"/>
          <p:cNvSpPr/>
          <p:nvPr/>
        </p:nvSpPr>
        <p:spPr>
          <a:xfrm>
            <a:off x="3924360" y="2436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is amphibia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Turtle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Action Button: Custom 4"/>
          <p:cNvSpPr/>
          <p:nvPr/>
        </p:nvSpPr>
        <p:spPr>
          <a:xfrm>
            <a:off x="38160" y="5435640"/>
            <a:ext cx="2768400" cy="1219320"/>
          </a:xfrm>
          <a:custGeom>
            <a:avLst/>
            <a:gdLst>
              <a:gd name="textAreaLeft" fmla="*/ 78840 w 2768400"/>
              <a:gd name="textAreaRight" fmla="*/ 2689560 w 2768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9034" h="21600">
                <a:moveTo>
                  <a:pt x="0" y="0"/>
                </a:moveTo>
                <a:lnTo>
                  <a:pt x="49034" y="0"/>
                </a:lnTo>
                <a:lnTo>
                  <a:pt x="49034" y="21600"/>
                </a:lnTo>
                <a:lnTo>
                  <a:pt x="0" y="21600"/>
                </a:lnTo>
                <a:close/>
              </a:path>
              <a:path fill="lightenLess" w="49034" h="21600">
                <a:moveTo>
                  <a:pt x="0" y="0"/>
                </a:moveTo>
                <a:lnTo>
                  <a:pt x="49034" y="0"/>
                </a:lnTo>
                <a:lnTo>
                  <a:pt x="47634" y="1400"/>
                </a:lnTo>
                <a:lnTo>
                  <a:pt x="1400" y="1400"/>
                </a:lnTo>
                <a:close/>
              </a:path>
              <a:path fill="darken" w="49034" h="21600">
                <a:moveTo>
                  <a:pt x="49034" y="0"/>
                </a:moveTo>
                <a:lnTo>
                  <a:pt x="49034" y="21600"/>
                </a:lnTo>
                <a:lnTo>
                  <a:pt x="47634" y="20200"/>
                </a:lnTo>
                <a:lnTo>
                  <a:pt x="47634" y="1400"/>
                </a:lnTo>
                <a:close/>
              </a:path>
              <a:path fill="darkenLess" w="49034" h="21600">
                <a:moveTo>
                  <a:pt x="49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34" y="20200"/>
                </a:lnTo>
                <a:close/>
              </a:path>
              <a:path fill="lighten" w="49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Salamand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Fro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Toad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29" name="Picture 3" descr="C:\Users\DSU\AppData\Local\Microsoft\Windows\Temporary Internet Files\Content.IE5\85IVXTT6\MP900437335[1].jpg"/>
          <p:cNvPicPr/>
          <p:nvPr/>
        </p:nvPicPr>
        <p:blipFill>
          <a:blip r:embed="rId3"/>
          <a:stretch/>
        </p:blipFill>
        <p:spPr>
          <a:xfrm>
            <a:off x="380880" y="258840"/>
            <a:ext cx="3060720" cy="3057480"/>
          </a:xfrm>
          <a:prstGeom prst="rect">
            <a:avLst/>
          </a:prstGeom>
          <a:ln w="0">
            <a:noFill/>
          </a:ln>
        </p:spPr>
      </p:pic>
      <p:sp>
        <p:nvSpPr>
          <p:cNvPr id="2230" name="Flowchart: Process 2"/>
          <p:cNvSpPr/>
          <p:nvPr/>
        </p:nvSpPr>
        <p:spPr>
          <a:xfrm>
            <a:off x="4114800" y="380880"/>
            <a:ext cx="4305240" cy="190512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Salamande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Action Button: Forward or Next 1">
            <a:hlinkClick r:id="" action="ppaction://hlinkshowjump?jump=nextslide"/>
          </p:cNvPr>
          <p:cNvSpPr/>
          <p:nvPr/>
        </p:nvSpPr>
        <p:spPr>
          <a:xfrm>
            <a:off x="3809880" y="3505320"/>
            <a:ext cx="1295640" cy="685800"/>
          </a:xfrm>
          <a:custGeom>
            <a:avLst/>
            <a:gdLst>
              <a:gd name="textAreaLeft" fmla="*/ 44280 w 1295640"/>
              <a:gd name="textAreaRight" fmla="*/ 1251360 w 12956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0797" h="21600">
                <a:moveTo>
                  <a:pt x="0" y="0"/>
                </a:moveTo>
                <a:lnTo>
                  <a:pt x="40797" y="0"/>
                </a:lnTo>
                <a:lnTo>
                  <a:pt x="40797" y="21600"/>
                </a:lnTo>
                <a:lnTo>
                  <a:pt x="0" y="21600"/>
                </a:lnTo>
                <a:close/>
              </a:path>
              <a:path fill="lightenLess" w="40797" h="21600">
                <a:moveTo>
                  <a:pt x="0" y="0"/>
                </a:moveTo>
                <a:lnTo>
                  <a:pt x="40797" y="0"/>
                </a:lnTo>
                <a:lnTo>
                  <a:pt x="39397" y="1400"/>
                </a:lnTo>
                <a:lnTo>
                  <a:pt x="1400" y="1400"/>
                </a:lnTo>
                <a:close/>
              </a:path>
              <a:path fill="darken" w="40797" h="21600">
                <a:moveTo>
                  <a:pt x="40797" y="0"/>
                </a:moveTo>
                <a:lnTo>
                  <a:pt x="40797" y="21600"/>
                </a:lnTo>
                <a:lnTo>
                  <a:pt x="39397" y="20200"/>
                </a:lnTo>
                <a:lnTo>
                  <a:pt x="39397" y="1400"/>
                </a:lnTo>
                <a:close/>
              </a:path>
              <a:path fill="darkenLess" w="40797" h="21600">
                <a:moveTo>
                  <a:pt x="407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397" y="20200"/>
                </a:lnTo>
                <a:close/>
              </a:path>
              <a:path fill="lighten" w="407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797" h="21600">
                <a:moveTo>
                  <a:pt x="13392" y="3794"/>
                </a:moveTo>
                <a:lnTo>
                  <a:pt x="27405" y="10800"/>
                </a:lnTo>
                <a:lnTo>
                  <a:pt x="13392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Oval 10" hidden="1">
            <a:hlinkClick r:id="rId2" action="ppaction://hlinksldjump"/>
          </p:cNvPr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TextBox 2"/>
          <p:cNvSpPr/>
          <p:nvPr/>
        </p:nvSpPr>
        <p:spPr>
          <a:xfrm>
            <a:off x="3924360" y="243684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kind of reptile is th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Turt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Action Button: Custom 4"/>
          <p:cNvSpPr/>
          <p:nvPr/>
        </p:nvSpPr>
        <p:spPr>
          <a:xfrm>
            <a:off x="38160" y="5435640"/>
            <a:ext cx="2768400" cy="1219320"/>
          </a:xfrm>
          <a:custGeom>
            <a:avLst/>
            <a:gdLst>
              <a:gd name="textAreaLeft" fmla="*/ 78840 w 2768400"/>
              <a:gd name="textAreaRight" fmla="*/ 2689560 w 2768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9034" h="21600">
                <a:moveTo>
                  <a:pt x="0" y="0"/>
                </a:moveTo>
                <a:lnTo>
                  <a:pt x="49034" y="0"/>
                </a:lnTo>
                <a:lnTo>
                  <a:pt x="49034" y="21600"/>
                </a:lnTo>
                <a:lnTo>
                  <a:pt x="0" y="21600"/>
                </a:lnTo>
                <a:close/>
              </a:path>
              <a:path fill="lightenLess" w="49034" h="21600">
                <a:moveTo>
                  <a:pt x="0" y="0"/>
                </a:moveTo>
                <a:lnTo>
                  <a:pt x="49034" y="0"/>
                </a:lnTo>
                <a:lnTo>
                  <a:pt x="47634" y="1400"/>
                </a:lnTo>
                <a:lnTo>
                  <a:pt x="1400" y="1400"/>
                </a:lnTo>
                <a:close/>
              </a:path>
              <a:path fill="darken" w="49034" h="21600">
                <a:moveTo>
                  <a:pt x="49034" y="0"/>
                </a:moveTo>
                <a:lnTo>
                  <a:pt x="49034" y="21600"/>
                </a:lnTo>
                <a:lnTo>
                  <a:pt x="47634" y="20200"/>
                </a:lnTo>
                <a:lnTo>
                  <a:pt x="47634" y="1400"/>
                </a:lnTo>
                <a:close/>
              </a:path>
              <a:path fill="darkenLess" w="49034" h="21600">
                <a:moveTo>
                  <a:pt x="49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34" y="20200"/>
                </a:lnTo>
                <a:close/>
              </a:path>
              <a:path fill="lighten" w="49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is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Fro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Salamand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0" name="Picture 3" descr="C:\Users\DSU\AppData\Local\Microsoft\Windows\Temporary Internet Files\Content.IE5\85IVXTT6\MP900313910[1].jpg"/>
          <p:cNvPicPr/>
          <p:nvPr/>
        </p:nvPicPr>
        <p:blipFill>
          <a:blip r:embed="rId3"/>
          <a:stretch/>
        </p:blipFill>
        <p:spPr>
          <a:xfrm>
            <a:off x="533520" y="285840"/>
            <a:ext cx="2743200" cy="2555640"/>
          </a:xfrm>
          <a:prstGeom prst="rect">
            <a:avLst/>
          </a:prstGeom>
          <a:ln w="0">
            <a:noFill/>
          </a:ln>
        </p:spPr>
      </p:pic>
      <p:sp>
        <p:nvSpPr>
          <p:cNvPr id="2241" name="Flowchart: Process 2"/>
          <p:cNvSpPr/>
          <p:nvPr/>
        </p:nvSpPr>
        <p:spPr>
          <a:xfrm>
            <a:off x="3924360" y="380880"/>
            <a:ext cx="4610160" cy="190512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Fish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Action Button: Forward or Next 1">
            <a:hlinkClick r:id="" action="ppaction://hlinkshowjump?jump=nextslide"/>
          </p:cNvPr>
          <p:cNvSpPr/>
          <p:nvPr/>
        </p:nvSpPr>
        <p:spPr>
          <a:xfrm>
            <a:off x="3581280" y="3429000"/>
            <a:ext cx="1371600" cy="762120"/>
          </a:xfrm>
          <a:custGeom>
            <a:avLst/>
            <a:gdLst>
              <a:gd name="textAreaLeft" fmla="*/ 49320 w 1371600"/>
              <a:gd name="textAreaRight" fmla="*/ 1322280 w 13716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8866" h="21600">
                <a:moveTo>
                  <a:pt x="0" y="0"/>
                </a:moveTo>
                <a:lnTo>
                  <a:pt x="38866" y="0"/>
                </a:lnTo>
                <a:lnTo>
                  <a:pt x="38866" y="21600"/>
                </a:lnTo>
                <a:lnTo>
                  <a:pt x="0" y="21600"/>
                </a:lnTo>
                <a:close/>
              </a:path>
              <a:path fill="lightenLess" w="38866" h="21600">
                <a:moveTo>
                  <a:pt x="0" y="0"/>
                </a:moveTo>
                <a:lnTo>
                  <a:pt x="38866" y="0"/>
                </a:lnTo>
                <a:lnTo>
                  <a:pt x="37466" y="1400"/>
                </a:lnTo>
                <a:lnTo>
                  <a:pt x="1400" y="1400"/>
                </a:lnTo>
                <a:close/>
              </a:path>
              <a:path fill="darken" w="38866" h="21600">
                <a:moveTo>
                  <a:pt x="38866" y="0"/>
                </a:moveTo>
                <a:lnTo>
                  <a:pt x="38866" y="21600"/>
                </a:lnTo>
                <a:lnTo>
                  <a:pt x="37466" y="20200"/>
                </a:lnTo>
                <a:lnTo>
                  <a:pt x="37466" y="1400"/>
                </a:lnTo>
                <a:close/>
              </a:path>
              <a:path fill="darkenLess" w="38866" h="21600">
                <a:moveTo>
                  <a:pt x="388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66" y="20200"/>
                </a:lnTo>
                <a:close/>
              </a:path>
              <a:path fill="lighten" w="388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66" h="21600">
                <a:moveTo>
                  <a:pt x="12426" y="3794"/>
                </a:moveTo>
                <a:lnTo>
                  <a:pt x="26439" y="10800"/>
                </a:lnTo>
                <a:lnTo>
                  <a:pt x="12426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Oval 10" hidden="1">
            <a:hlinkClick r:id="rId2" action="ppaction://hlinksldjump"/>
          </p:cNvPr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TextBox 2"/>
          <p:cNvSpPr/>
          <p:nvPr/>
        </p:nvSpPr>
        <p:spPr>
          <a:xfrm>
            <a:off x="3924360" y="243684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part of the skeletal system is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Spinal Colum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Action Button: Custom 4"/>
          <p:cNvSpPr/>
          <p:nvPr/>
        </p:nvSpPr>
        <p:spPr>
          <a:xfrm>
            <a:off x="0" y="5435640"/>
            <a:ext cx="2768760" cy="1219320"/>
          </a:xfrm>
          <a:custGeom>
            <a:avLst/>
            <a:gdLst>
              <a:gd name="textAreaLeft" fmla="*/ 78840 w 2768760"/>
              <a:gd name="textAreaRight" fmla="*/ 2689920 w 276876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9040" h="21600">
                <a:moveTo>
                  <a:pt x="0" y="0"/>
                </a:moveTo>
                <a:lnTo>
                  <a:pt x="49040" y="0"/>
                </a:lnTo>
                <a:lnTo>
                  <a:pt x="49040" y="21600"/>
                </a:lnTo>
                <a:lnTo>
                  <a:pt x="0" y="21600"/>
                </a:lnTo>
                <a:close/>
              </a:path>
              <a:path fill="lightenLess" w="49040" h="21600">
                <a:moveTo>
                  <a:pt x="0" y="0"/>
                </a:moveTo>
                <a:lnTo>
                  <a:pt x="49040" y="0"/>
                </a:lnTo>
                <a:lnTo>
                  <a:pt x="47640" y="1400"/>
                </a:lnTo>
                <a:lnTo>
                  <a:pt x="1400" y="1400"/>
                </a:lnTo>
                <a:close/>
              </a:path>
              <a:path fill="darken" w="49040" h="21600">
                <a:moveTo>
                  <a:pt x="49040" y="0"/>
                </a:moveTo>
                <a:lnTo>
                  <a:pt x="49040" y="21600"/>
                </a:lnTo>
                <a:lnTo>
                  <a:pt x="47640" y="20200"/>
                </a:lnTo>
                <a:lnTo>
                  <a:pt x="47640" y="1400"/>
                </a:lnTo>
                <a:close/>
              </a:path>
              <a:path fill="darkenLess" w="49040" h="21600">
                <a:moveTo>
                  <a:pt x="490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40" y="20200"/>
                </a:lnTo>
                <a:close/>
              </a:path>
              <a:path fill="lighten" w="490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Femur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Action Button: Custom 5"/>
          <p:cNvSpPr/>
          <p:nvPr/>
        </p:nvSpPr>
        <p:spPr>
          <a:xfrm>
            <a:off x="5867280" y="3784680"/>
            <a:ext cx="2895840" cy="121896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51306" h="21600">
                <a:moveTo>
                  <a:pt x="0" y="0"/>
                </a:moveTo>
                <a:lnTo>
                  <a:pt x="51306" y="0"/>
                </a:lnTo>
                <a:lnTo>
                  <a:pt x="51306" y="21600"/>
                </a:lnTo>
                <a:lnTo>
                  <a:pt x="0" y="21600"/>
                </a:lnTo>
                <a:close/>
              </a:path>
              <a:path fill="lightenLess" w="51306" h="21600">
                <a:moveTo>
                  <a:pt x="0" y="0"/>
                </a:moveTo>
                <a:lnTo>
                  <a:pt x="51306" y="0"/>
                </a:lnTo>
                <a:lnTo>
                  <a:pt x="49906" y="1400"/>
                </a:lnTo>
                <a:lnTo>
                  <a:pt x="1400" y="1400"/>
                </a:lnTo>
                <a:close/>
              </a:path>
              <a:path fill="darken" w="51306" h="21600">
                <a:moveTo>
                  <a:pt x="51306" y="0"/>
                </a:moveTo>
                <a:lnTo>
                  <a:pt x="51306" y="21600"/>
                </a:lnTo>
                <a:lnTo>
                  <a:pt x="49906" y="20200"/>
                </a:lnTo>
                <a:lnTo>
                  <a:pt x="49906" y="1400"/>
                </a:lnTo>
                <a:close/>
              </a:path>
              <a:path fill="darkenLess" w="51306" h="21600">
                <a:moveTo>
                  <a:pt x="513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906" y="20200"/>
                </a:lnTo>
                <a:close/>
              </a:path>
              <a:path fill="lighten" w="513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Ulna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Patella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51" name="Picture 3" descr="C:\Users\DSU\AppData\Local\Microsoft\Windows\Temporary Internet Files\Content.IE5\85IVXTT6\MP900448601[1].jpg"/>
          <p:cNvPicPr/>
          <p:nvPr/>
        </p:nvPicPr>
        <p:blipFill>
          <a:blip r:embed="rId3"/>
          <a:stretch/>
        </p:blipFill>
        <p:spPr>
          <a:xfrm>
            <a:off x="533520" y="152280"/>
            <a:ext cx="2666880" cy="3200400"/>
          </a:xfrm>
          <a:prstGeom prst="rect">
            <a:avLst/>
          </a:prstGeom>
          <a:ln w="0">
            <a:noFill/>
          </a:ln>
        </p:spPr>
      </p:pic>
      <p:sp>
        <p:nvSpPr>
          <p:cNvPr id="2252" name="Flowchart: Process 2"/>
          <p:cNvSpPr/>
          <p:nvPr/>
        </p:nvSpPr>
        <p:spPr>
          <a:xfrm>
            <a:off x="3924360" y="457200"/>
            <a:ext cx="4495680" cy="182880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Femu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Action Button: Forward or Next 1">
            <a:hlinkClick r:id="" action="ppaction://hlinkshowjump?jump=nextslide"/>
          </p:cNvPr>
          <p:cNvSpPr/>
          <p:nvPr/>
        </p:nvSpPr>
        <p:spPr>
          <a:xfrm>
            <a:off x="3657600" y="3513240"/>
            <a:ext cx="1066680" cy="753840"/>
          </a:xfrm>
          <a:custGeom>
            <a:avLst/>
            <a:gdLst>
              <a:gd name="textAreaLeft" fmla="*/ 48600 w 1066680"/>
              <a:gd name="textAreaRight" fmla="*/ 1018080 w 1066680"/>
              <a:gd name="textAreaTop" fmla="*/ 48600 h 753840"/>
              <a:gd name="textAreaBottom" fmla="*/ 705240 h 753840"/>
            </a:gdLst>
            <a:ahLst/>
            <a:rect l="textAreaLeft" t="textAreaTop" r="textAreaRight" b="textAreaBottom"/>
            <a:pathLst>
              <a:path w="30560" h="21600">
                <a:moveTo>
                  <a:pt x="0" y="0"/>
                </a:moveTo>
                <a:lnTo>
                  <a:pt x="30560" y="0"/>
                </a:lnTo>
                <a:lnTo>
                  <a:pt x="30560" y="21600"/>
                </a:lnTo>
                <a:lnTo>
                  <a:pt x="0" y="21600"/>
                </a:lnTo>
                <a:close/>
              </a:path>
              <a:path fill="lightenLess" w="30560" h="21600">
                <a:moveTo>
                  <a:pt x="0" y="0"/>
                </a:moveTo>
                <a:lnTo>
                  <a:pt x="30560" y="0"/>
                </a:lnTo>
                <a:lnTo>
                  <a:pt x="29160" y="1400"/>
                </a:lnTo>
                <a:lnTo>
                  <a:pt x="1400" y="1400"/>
                </a:lnTo>
                <a:close/>
              </a:path>
              <a:path fill="darken" w="30560" h="21600">
                <a:moveTo>
                  <a:pt x="30560" y="0"/>
                </a:moveTo>
                <a:lnTo>
                  <a:pt x="30560" y="21600"/>
                </a:lnTo>
                <a:lnTo>
                  <a:pt x="29160" y="20200"/>
                </a:lnTo>
                <a:lnTo>
                  <a:pt x="29160" y="1400"/>
                </a:lnTo>
                <a:close/>
              </a:path>
              <a:path fill="darkenLess" w="30560" h="21600">
                <a:moveTo>
                  <a:pt x="305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160" y="20200"/>
                </a:lnTo>
                <a:close/>
              </a:path>
              <a:path fill="lighten" w="305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560" h="21600">
                <a:moveTo>
                  <a:pt x="8273" y="3794"/>
                </a:moveTo>
                <a:lnTo>
                  <a:pt x="22286" y="10800"/>
                </a:lnTo>
                <a:lnTo>
                  <a:pt x="8273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Oval 10" hidden="1"/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TextBox 2"/>
          <p:cNvSpPr/>
          <p:nvPr/>
        </p:nvSpPr>
        <p:spPr>
          <a:xfrm>
            <a:off x="3924360" y="2436840"/>
            <a:ext cx="449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part of the skeletal system is th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rbel"/>
              </a:rPr>
              <a:t>Patel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Action Button: Custom 4"/>
          <p:cNvSpPr/>
          <p:nvPr/>
        </p:nvSpPr>
        <p:spPr>
          <a:xfrm>
            <a:off x="38160" y="5435640"/>
            <a:ext cx="2768400" cy="1219320"/>
          </a:xfrm>
          <a:custGeom>
            <a:avLst/>
            <a:gdLst>
              <a:gd name="textAreaLeft" fmla="*/ 78840 w 2768400"/>
              <a:gd name="textAreaRight" fmla="*/ 2689560 w 2768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9034" h="21600">
                <a:moveTo>
                  <a:pt x="0" y="0"/>
                </a:moveTo>
                <a:lnTo>
                  <a:pt x="49034" y="0"/>
                </a:lnTo>
                <a:lnTo>
                  <a:pt x="49034" y="21600"/>
                </a:lnTo>
                <a:lnTo>
                  <a:pt x="0" y="21600"/>
                </a:lnTo>
                <a:close/>
              </a:path>
              <a:path fill="lightenLess" w="49034" h="21600">
                <a:moveTo>
                  <a:pt x="0" y="0"/>
                </a:moveTo>
                <a:lnTo>
                  <a:pt x="49034" y="0"/>
                </a:lnTo>
                <a:lnTo>
                  <a:pt x="47634" y="1400"/>
                </a:lnTo>
                <a:lnTo>
                  <a:pt x="1400" y="1400"/>
                </a:lnTo>
                <a:close/>
              </a:path>
              <a:path fill="darken" w="49034" h="21600">
                <a:moveTo>
                  <a:pt x="49034" y="0"/>
                </a:moveTo>
                <a:lnTo>
                  <a:pt x="49034" y="21600"/>
                </a:lnTo>
                <a:lnTo>
                  <a:pt x="47634" y="20200"/>
                </a:lnTo>
                <a:lnTo>
                  <a:pt x="47634" y="1400"/>
                </a:lnTo>
                <a:close/>
              </a:path>
              <a:path fill="darkenLess" w="49034" h="21600">
                <a:moveTo>
                  <a:pt x="49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34" y="20200"/>
                </a:lnTo>
                <a:close/>
              </a:path>
              <a:path fill="lighten" w="49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Radiu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0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Spinal Colum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1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Fibula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2" name="Picture 3" descr="C:\Users\DSU\AppData\Local\Microsoft\Windows\Temporary Internet Files\Content.IE5\N46ZUYAR\MP900385791[1].jpg"/>
          <p:cNvPicPr/>
          <p:nvPr/>
        </p:nvPicPr>
        <p:blipFill>
          <a:blip r:embed="rId2"/>
          <a:stretch/>
        </p:blipFill>
        <p:spPr>
          <a:xfrm>
            <a:off x="304920" y="380880"/>
            <a:ext cx="3352680" cy="2022480"/>
          </a:xfrm>
          <a:prstGeom prst="rect">
            <a:avLst/>
          </a:prstGeom>
          <a:ln w="0">
            <a:noFill/>
          </a:ln>
        </p:spPr>
      </p:pic>
      <p:sp>
        <p:nvSpPr>
          <p:cNvPr id="2263" name="Flowchart: Process 2"/>
          <p:cNvSpPr/>
          <p:nvPr/>
        </p:nvSpPr>
        <p:spPr>
          <a:xfrm>
            <a:off x="4343400" y="533520"/>
            <a:ext cx="4267080" cy="186984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rbel"/>
              </a:rPr>
              <a:t>Radiu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4" name="Action Button: Forward or Next 1">
            <a:hlinkClick r:id="" action="ppaction://hlinkshowjump?jump=nextslide"/>
          </p:cNvPr>
          <p:cNvSpPr/>
          <p:nvPr/>
        </p:nvSpPr>
        <p:spPr>
          <a:xfrm>
            <a:off x="3657600" y="3835440"/>
            <a:ext cx="1523880" cy="469800"/>
          </a:xfrm>
          <a:custGeom>
            <a:avLst/>
            <a:gdLst>
              <a:gd name="textAreaLeft" fmla="*/ 30240 w 1523880"/>
              <a:gd name="textAreaRight" fmla="*/ 1493640 w 1523880"/>
              <a:gd name="textAreaTop" fmla="*/ 30240 h 469800"/>
              <a:gd name="textAreaBottom" fmla="*/ 439560 h 469800"/>
            </a:gdLst>
            <a:ahLst/>
            <a:rect l="textAreaLeft" t="textAreaTop" r="textAreaRight" b="textAreaBottom"/>
            <a:pathLst>
              <a:path w="70026" h="21600">
                <a:moveTo>
                  <a:pt x="0" y="0"/>
                </a:moveTo>
                <a:lnTo>
                  <a:pt x="70026" y="0"/>
                </a:lnTo>
                <a:lnTo>
                  <a:pt x="70026" y="21600"/>
                </a:lnTo>
                <a:lnTo>
                  <a:pt x="0" y="21600"/>
                </a:lnTo>
                <a:close/>
              </a:path>
              <a:path fill="lightenLess" w="70026" h="21600">
                <a:moveTo>
                  <a:pt x="0" y="0"/>
                </a:moveTo>
                <a:lnTo>
                  <a:pt x="70026" y="0"/>
                </a:lnTo>
                <a:lnTo>
                  <a:pt x="68626" y="1400"/>
                </a:lnTo>
                <a:lnTo>
                  <a:pt x="1400" y="1400"/>
                </a:lnTo>
                <a:close/>
              </a:path>
              <a:path fill="darken" w="70026" h="21600">
                <a:moveTo>
                  <a:pt x="70026" y="0"/>
                </a:moveTo>
                <a:lnTo>
                  <a:pt x="70026" y="21600"/>
                </a:lnTo>
                <a:lnTo>
                  <a:pt x="68626" y="20200"/>
                </a:lnTo>
                <a:lnTo>
                  <a:pt x="68626" y="1400"/>
                </a:lnTo>
                <a:close/>
              </a:path>
              <a:path fill="darkenLess" w="70026" h="21600">
                <a:moveTo>
                  <a:pt x="700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626" y="20200"/>
                </a:lnTo>
                <a:close/>
              </a:path>
              <a:path fill="lighten" w="700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026" h="21600">
                <a:moveTo>
                  <a:pt x="28007" y="3794"/>
                </a:moveTo>
                <a:lnTo>
                  <a:pt x="42020" y="10800"/>
                </a:lnTo>
                <a:lnTo>
                  <a:pt x="28007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6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7" name="Oval 10" hidden="1"/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8" name="TextBox 2"/>
          <p:cNvSpPr/>
          <p:nvPr/>
        </p:nvSpPr>
        <p:spPr>
          <a:xfrm>
            <a:off x="4267080" y="2436840"/>
            <a:ext cx="449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system is the heart par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9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Circulato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0" name="Action Button: Custom 4"/>
          <p:cNvSpPr/>
          <p:nvPr/>
        </p:nvSpPr>
        <p:spPr>
          <a:xfrm>
            <a:off x="38160" y="5435640"/>
            <a:ext cx="2768400" cy="1219320"/>
          </a:xfrm>
          <a:custGeom>
            <a:avLst/>
            <a:gdLst>
              <a:gd name="textAreaLeft" fmla="*/ 78840 w 2768400"/>
              <a:gd name="textAreaRight" fmla="*/ 2689560 w 27684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9034" h="21600">
                <a:moveTo>
                  <a:pt x="0" y="0"/>
                </a:moveTo>
                <a:lnTo>
                  <a:pt x="49034" y="0"/>
                </a:lnTo>
                <a:lnTo>
                  <a:pt x="49034" y="21600"/>
                </a:lnTo>
                <a:lnTo>
                  <a:pt x="0" y="21600"/>
                </a:lnTo>
                <a:close/>
              </a:path>
              <a:path fill="lightenLess" w="49034" h="21600">
                <a:moveTo>
                  <a:pt x="0" y="0"/>
                </a:moveTo>
                <a:lnTo>
                  <a:pt x="49034" y="0"/>
                </a:lnTo>
                <a:lnTo>
                  <a:pt x="47634" y="1400"/>
                </a:lnTo>
                <a:lnTo>
                  <a:pt x="1400" y="1400"/>
                </a:lnTo>
                <a:close/>
              </a:path>
              <a:path fill="darken" w="49034" h="21600">
                <a:moveTo>
                  <a:pt x="49034" y="0"/>
                </a:moveTo>
                <a:lnTo>
                  <a:pt x="49034" y="21600"/>
                </a:lnTo>
                <a:lnTo>
                  <a:pt x="47634" y="20200"/>
                </a:lnTo>
                <a:lnTo>
                  <a:pt x="47634" y="1400"/>
                </a:lnTo>
                <a:close/>
              </a:path>
              <a:path fill="darkenLess" w="49034" h="21600">
                <a:moveTo>
                  <a:pt x="490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34" y="20200"/>
                </a:lnTo>
                <a:close/>
              </a:path>
              <a:path fill="lighten" w="490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rbel"/>
              </a:rPr>
              <a:t>Reproduct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1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Endocr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2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Exocrin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73" name="Picture 3" descr="C:\Users\DSU\AppData\Local\Microsoft\Windows\Temporary Internet Files\Content.IE5\N46ZUYAR\MC900438743[1].jpg"/>
          <p:cNvPicPr/>
          <p:nvPr/>
        </p:nvPicPr>
        <p:blipFill>
          <a:blip r:embed="rId2"/>
          <a:stretch/>
        </p:blipFill>
        <p:spPr>
          <a:xfrm>
            <a:off x="266760" y="154080"/>
            <a:ext cx="3657600" cy="2743200"/>
          </a:xfrm>
          <a:prstGeom prst="rect">
            <a:avLst/>
          </a:prstGeom>
          <a:ln w="0">
            <a:noFill/>
          </a:ln>
        </p:spPr>
      </p:pic>
      <p:sp>
        <p:nvSpPr>
          <p:cNvPr id="2274" name="Flowchart: Process 2"/>
          <p:cNvSpPr/>
          <p:nvPr/>
        </p:nvSpPr>
        <p:spPr>
          <a:xfrm>
            <a:off x="4495680" y="457200"/>
            <a:ext cx="4229280" cy="190512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Reproduc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5" name="Action Button: Forward or Next 1">
            <a:hlinkClick r:id="" action="ppaction://hlinkshowjump?jump=nextslide"/>
          </p:cNvPr>
          <p:cNvSpPr/>
          <p:nvPr/>
        </p:nvSpPr>
        <p:spPr>
          <a:xfrm>
            <a:off x="3809880" y="3505320"/>
            <a:ext cx="1143000" cy="799920"/>
          </a:xfrm>
          <a:custGeom>
            <a:avLst/>
            <a:gdLst>
              <a:gd name="textAreaLeft" fmla="*/ 51840 w 1143000"/>
              <a:gd name="textAreaRight" fmla="*/ 1091160 w 1143000"/>
              <a:gd name="textAreaTop" fmla="*/ 51840 h 799920"/>
              <a:gd name="textAreaBottom" fmla="*/ 748080 h 799920"/>
            </a:gdLst>
            <a:ahLst/>
            <a:rect l="textAreaLeft" t="textAreaTop" r="textAreaRight" b="textAreaBottom"/>
            <a:pathLst>
              <a:path w="30860" h="21600">
                <a:moveTo>
                  <a:pt x="0" y="0"/>
                </a:moveTo>
                <a:lnTo>
                  <a:pt x="30860" y="0"/>
                </a:lnTo>
                <a:lnTo>
                  <a:pt x="30860" y="21600"/>
                </a:lnTo>
                <a:lnTo>
                  <a:pt x="0" y="21600"/>
                </a:lnTo>
                <a:close/>
              </a:path>
              <a:path fill="lightenLess" w="30860" h="21600">
                <a:moveTo>
                  <a:pt x="0" y="0"/>
                </a:moveTo>
                <a:lnTo>
                  <a:pt x="30860" y="0"/>
                </a:lnTo>
                <a:lnTo>
                  <a:pt x="29460" y="1400"/>
                </a:lnTo>
                <a:lnTo>
                  <a:pt x="1400" y="1400"/>
                </a:lnTo>
                <a:close/>
              </a:path>
              <a:path fill="darken" w="30860" h="21600">
                <a:moveTo>
                  <a:pt x="30860" y="0"/>
                </a:moveTo>
                <a:lnTo>
                  <a:pt x="30860" y="21600"/>
                </a:lnTo>
                <a:lnTo>
                  <a:pt x="29460" y="20200"/>
                </a:lnTo>
                <a:lnTo>
                  <a:pt x="29460" y="1400"/>
                </a:lnTo>
                <a:close/>
              </a:path>
              <a:path fill="darkenLess" w="30860" h="21600">
                <a:moveTo>
                  <a:pt x="308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60" y="20200"/>
                </a:lnTo>
                <a:close/>
              </a:path>
              <a:path fill="lighten" w="308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60" h="21600">
                <a:moveTo>
                  <a:pt x="8423" y="3794"/>
                </a:moveTo>
                <a:lnTo>
                  <a:pt x="22436" y="10800"/>
                </a:lnTo>
                <a:lnTo>
                  <a:pt x="8423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7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8" name="Oval 10" hidden="1"/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9" name="TextBox 2"/>
          <p:cNvSpPr/>
          <p:nvPr/>
        </p:nvSpPr>
        <p:spPr>
          <a:xfrm>
            <a:off x="3924360" y="2436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eason is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0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Wint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Action Button: Custom 4"/>
          <p:cNvSpPr/>
          <p:nvPr/>
        </p:nvSpPr>
        <p:spPr>
          <a:xfrm>
            <a:off x="0" y="5473800"/>
            <a:ext cx="2768760" cy="1218960"/>
          </a:xfrm>
          <a:custGeom>
            <a:avLst/>
            <a:gdLst>
              <a:gd name="textAreaLeft" fmla="*/ 78840 w 2768760"/>
              <a:gd name="textAreaRight" fmla="*/ 2689920 w 27687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9054" h="21600">
                <a:moveTo>
                  <a:pt x="0" y="0"/>
                </a:moveTo>
                <a:lnTo>
                  <a:pt x="49054" y="0"/>
                </a:lnTo>
                <a:lnTo>
                  <a:pt x="49054" y="21600"/>
                </a:lnTo>
                <a:lnTo>
                  <a:pt x="0" y="21600"/>
                </a:lnTo>
                <a:close/>
              </a:path>
              <a:path fill="lightenLess" w="49054" h="21600">
                <a:moveTo>
                  <a:pt x="0" y="0"/>
                </a:moveTo>
                <a:lnTo>
                  <a:pt x="49054" y="0"/>
                </a:lnTo>
                <a:lnTo>
                  <a:pt x="47654" y="1400"/>
                </a:lnTo>
                <a:lnTo>
                  <a:pt x="1400" y="1400"/>
                </a:lnTo>
                <a:close/>
              </a:path>
              <a:path fill="darken" w="49054" h="21600">
                <a:moveTo>
                  <a:pt x="49054" y="0"/>
                </a:moveTo>
                <a:lnTo>
                  <a:pt x="49054" y="21600"/>
                </a:lnTo>
                <a:lnTo>
                  <a:pt x="47654" y="20200"/>
                </a:lnTo>
                <a:lnTo>
                  <a:pt x="47654" y="1400"/>
                </a:lnTo>
                <a:close/>
              </a:path>
              <a:path fill="darkenLess" w="49054" h="21600">
                <a:moveTo>
                  <a:pt x="4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54" y="20200"/>
                </a:lnTo>
                <a:close/>
              </a:path>
              <a:path fill="lighten" w="4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Sum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rbel"/>
              </a:rPr>
              <a:t>Spring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Fall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4" name="Flowchart: Process 2"/>
          <p:cNvSpPr/>
          <p:nvPr/>
        </p:nvSpPr>
        <p:spPr>
          <a:xfrm>
            <a:off x="4114800" y="457200"/>
            <a:ext cx="4305240" cy="160020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Summer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85" name="Picture 3" descr="C:\Users\DSU\AppData\Local\Microsoft\Windows\Temporary Internet Files\Content.IE5\85IVXTT6\MP900432901[1].jpg"/>
          <p:cNvPicPr/>
          <p:nvPr/>
        </p:nvPicPr>
        <p:blipFill>
          <a:blip r:embed="rId2"/>
          <a:stretch/>
        </p:blipFill>
        <p:spPr>
          <a:xfrm>
            <a:off x="1143000" y="457200"/>
            <a:ext cx="2514600" cy="2792520"/>
          </a:xfrm>
          <a:prstGeom prst="rect">
            <a:avLst/>
          </a:prstGeom>
          <a:ln w="0">
            <a:noFill/>
          </a:ln>
        </p:spPr>
      </p:pic>
      <p:sp>
        <p:nvSpPr>
          <p:cNvPr id="2286" name="Action Button: Forward or Next 1">
            <a:hlinkClick r:id="" action="ppaction://hlinkshowjump?jump=nextslide"/>
          </p:cNvPr>
          <p:cNvSpPr/>
          <p:nvPr/>
        </p:nvSpPr>
        <p:spPr>
          <a:xfrm>
            <a:off x="3733920" y="3505320"/>
            <a:ext cx="1371600" cy="799920"/>
          </a:xfrm>
          <a:custGeom>
            <a:avLst/>
            <a:gdLst>
              <a:gd name="textAreaLeft" fmla="*/ 51840 w 1371600"/>
              <a:gd name="textAreaRight" fmla="*/ 1319760 w 1371600"/>
              <a:gd name="textAreaTop" fmla="*/ 51840 h 799920"/>
              <a:gd name="textAreaBottom" fmla="*/ 748080 h 799920"/>
            </a:gdLst>
            <a:ahLst/>
            <a:rect l="textAreaLeft" t="textAreaTop" r="textAreaRight" b="textAreaBottom"/>
            <a:pathLst>
              <a:path w="37030" h="21600">
                <a:moveTo>
                  <a:pt x="0" y="0"/>
                </a:moveTo>
                <a:lnTo>
                  <a:pt x="37030" y="0"/>
                </a:lnTo>
                <a:lnTo>
                  <a:pt x="37030" y="21600"/>
                </a:lnTo>
                <a:lnTo>
                  <a:pt x="0" y="21600"/>
                </a:lnTo>
                <a:close/>
              </a:path>
              <a:path fill="lightenLess" w="37030" h="21600">
                <a:moveTo>
                  <a:pt x="0" y="0"/>
                </a:moveTo>
                <a:lnTo>
                  <a:pt x="37030" y="0"/>
                </a:lnTo>
                <a:lnTo>
                  <a:pt x="35630" y="1400"/>
                </a:lnTo>
                <a:lnTo>
                  <a:pt x="1400" y="1400"/>
                </a:lnTo>
                <a:close/>
              </a:path>
              <a:path fill="darken" w="37030" h="21600">
                <a:moveTo>
                  <a:pt x="37030" y="0"/>
                </a:moveTo>
                <a:lnTo>
                  <a:pt x="37030" y="21600"/>
                </a:lnTo>
                <a:lnTo>
                  <a:pt x="35630" y="20200"/>
                </a:lnTo>
                <a:lnTo>
                  <a:pt x="35630" y="1400"/>
                </a:lnTo>
                <a:close/>
              </a:path>
              <a:path fill="darkenLess" w="37030" h="21600">
                <a:moveTo>
                  <a:pt x="37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30" y="20200"/>
                </a:lnTo>
                <a:close/>
              </a:path>
              <a:path fill="lighten" w="37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30" h="21600">
                <a:moveTo>
                  <a:pt x="11508" y="3794"/>
                </a:moveTo>
                <a:lnTo>
                  <a:pt x="25521" y="10800"/>
                </a:lnTo>
                <a:lnTo>
                  <a:pt x="11508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15"/>
          <p:cNvSpPr/>
          <p:nvPr/>
        </p:nvSpPr>
        <p:spPr>
          <a:xfrm>
            <a:off x="3581280" y="4572000"/>
            <a:ext cx="1828800" cy="144792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Click In The Green To Sca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8" name="Oval 9" hidden="1">
            <a:hlinkClick r:id="" action="ppaction://hlinkshowjump?jump=nextslide"/>
            <a:hlinkClick r:id="rId1"/>
          </p:cNvPr>
          <p:cNvSpPr/>
          <p:nvPr/>
        </p:nvSpPr>
        <p:spPr>
          <a:xfrm>
            <a:off x="228600" y="990720"/>
            <a:ext cx="4419720" cy="37335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9" name="Oval 10" hidden="1"/>
          <p:cNvSpPr/>
          <p:nvPr/>
        </p:nvSpPr>
        <p:spPr>
          <a:xfrm>
            <a:off x="4800600" y="1066680"/>
            <a:ext cx="4343400" cy="38862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0" name="TextBox 2"/>
          <p:cNvSpPr/>
          <p:nvPr/>
        </p:nvSpPr>
        <p:spPr>
          <a:xfrm>
            <a:off x="3924360" y="243684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season is thi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1" name="Action Button: Custom 3"/>
          <p:cNvSpPr/>
          <p:nvPr/>
        </p:nvSpPr>
        <p:spPr>
          <a:xfrm>
            <a:off x="63360" y="3835440"/>
            <a:ext cx="2743200" cy="121932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48587" h="21600">
                <a:moveTo>
                  <a:pt x="0" y="0"/>
                </a:moveTo>
                <a:lnTo>
                  <a:pt x="48587" y="0"/>
                </a:lnTo>
                <a:lnTo>
                  <a:pt x="48587" y="21600"/>
                </a:lnTo>
                <a:lnTo>
                  <a:pt x="0" y="21600"/>
                </a:lnTo>
                <a:close/>
              </a:path>
              <a:path fill="lightenLess" w="48587" h="21600">
                <a:moveTo>
                  <a:pt x="0" y="0"/>
                </a:moveTo>
                <a:lnTo>
                  <a:pt x="48587" y="0"/>
                </a:lnTo>
                <a:lnTo>
                  <a:pt x="47187" y="1400"/>
                </a:lnTo>
                <a:lnTo>
                  <a:pt x="1400" y="1400"/>
                </a:lnTo>
                <a:close/>
              </a:path>
              <a:path fill="darken" w="48587" h="21600">
                <a:moveTo>
                  <a:pt x="48587" y="0"/>
                </a:moveTo>
                <a:lnTo>
                  <a:pt x="48587" y="21600"/>
                </a:lnTo>
                <a:lnTo>
                  <a:pt x="47187" y="20200"/>
                </a:lnTo>
                <a:lnTo>
                  <a:pt x="47187" y="1400"/>
                </a:lnTo>
                <a:close/>
              </a:path>
              <a:path fill="darkenLess" w="48587" h="21600">
                <a:moveTo>
                  <a:pt x="485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187" y="20200"/>
                </a:lnTo>
                <a:close/>
              </a:path>
              <a:path fill="lighten" w="485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Summer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2" name="Action Button: Custom 4"/>
          <p:cNvSpPr/>
          <p:nvPr/>
        </p:nvSpPr>
        <p:spPr>
          <a:xfrm>
            <a:off x="0" y="5473800"/>
            <a:ext cx="2768760" cy="1218960"/>
          </a:xfrm>
          <a:custGeom>
            <a:avLst/>
            <a:gdLst>
              <a:gd name="textAreaLeft" fmla="*/ 78840 w 2768760"/>
              <a:gd name="textAreaRight" fmla="*/ 2689920 w 276876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9054" h="21600">
                <a:moveTo>
                  <a:pt x="0" y="0"/>
                </a:moveTo>
                <a:lnTo>
                  <a:pt x="49054" y="0"/>
                </a:lnTo>
                <a:lnTo>
                  <a:pt x="49054" y="21600"/>
                </a:lnTo>
                <a:lnTo>
                  <a:pt x="0" y="21600"/>
                </a:lnTo>
                <a:close/>
              </a:path>
              <a:path fill="lightenLess" w="49054" h="21600">
                <a:moveTo>
                  <a:pt x="0" y="0"/>
                </a:moveTo>
                <a:lnTo>
                  <a:pt x="49054" y="0"/>
                </a:lnTo>
                <a:lnTo>
                  <a:pt x="47654" y="1400"/>
                </a:lnTo>
                <a:lnTo>
                  <a:pt x="1400" y="1400"/>
                </a:lnTo>
                <a:close/>
              </a:path>
              <a:path fill="darken" w="49054" h="21600">
                <a:moveTo>
                  <a:pt x="49054" y="0"/>
                </a:moveTo>
                <a:lnTo>
                  <a:pt x="49054" y="21600"/>
                </a:lnTo>
                <a:lnTo>
                  <a:pt x="47654" y="20200"/>
                </a:lnTo>
                <a:lnTo>
                  <a:pt x="47654" y="1400"/>
                </a:lnTo>
                <a:close/>
              </a:path>
              <a:path fill="darkenLess" w="49054" h="21600">
                <a:moveTo>
                  <a:pt x="490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654" y="20200"/>
                </a:lnTo>
                <a:close/>
              </a:path>
              <a:path fill="lighten" w="490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Fall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3" name="Action Button: Custom 5"/>
          <p:cNvSpPr/>
          <p:nvPr/>
        </p:nvSpPr>
        <p:spPr>
          <a:xfrm>
            <a:off x="5867280" y="3695760"/>
            <a:ext cx="2895840" cy="1219320"/>
          </a:xfrm>
          <a:custGeom>
            <a:avLst/>
            <a:gdLst>
              <a:gd name="textAreaLeft" fmla="*/ 78840 w 2895840"/>
              <a:gd name="textAreaRight" fmla="*/ 2817000 w 28958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51290" h="21600">
                <a:moveTo>
                  <a:pt x="0" y="0"/>
                </a:moveTo>
                <a:lnTo>
                  <a:pt x="51290" y="0"/>
                </a:lnTo>
                <a:lnTo>
                  <a:pt x="51290" y="21600"/>
                </a:lnTo>
                <a:lnTo>
                  <a:pt x="0" y="21600"/>
                </a:lnTo>
                <a:close/>
              </a:path>
              <a:path fill="lightenLess" w="51290" h="21600">
                <a:moveTo>
                  <a:pt x="0" y="0"/>
                </a:moveTo>
                <a:lnTo>
                  <a:pt x="51290" y="0"/>
                </a:lnTo>
                <a:lnTo>
                  <a:pt x="49891" y="1400"/>
                </a:lnTo>
                <a:lnTo>
                  <a:pt x="1400" y="1400"/>
                </a:lnTo>
                <a:close/>
              </a:path>
              <a:path fill="darken" w="51290" h="21600">
                <a:moveTo>
                  <a:pt x="51290" y="0"/>
                </a:moveTo>
                <a:lnTo>
                  <a:pt x="51290" y="21600"/>
                </a:lnTo>
                <a:lnTo>
                  <a:pt x="49891" y="20200"/>
                </a:lnTo>
                <a:lnTo>
                  <a:pt x="49891" y="1400"/>
                </a:lnTo>
                <a:close/>
              </a:path>
              <a:path fill="darkenLess" w="51290" h="21600">
                <a:moveTo>
                  <a:pt x="512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1" y="20200"/>
                </a:lnTo>
                <a:close/>
              </a:path>
              <a:path fill="lighten" w="512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orbel"/>
              </a:rPr>
              <a:t>Spring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4" name="Action Button: Custom 6"/>
          <p:cNvSpPr/>
          <p:nvPr/>
        </p:nvSpPr>
        <p:spPr>
          <a:xfrm>
            <a:off x="5867280" y="5448240"/>
            <a:ext cx="2857680" cy="1143000"/>
          </a:xfrm>
          <a:custGeom>
            <a:avLst/>
            <a:gdLst>
              <a:gd name="textAreaLeft" fmla="*/ 73800 w 2857680"/>
              <a:gd name="textAreaRight" fmla="*/ 2783880 w 28576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53993" h="21600">
                <a:moveTo>
                  <a:pt x="0" y="0"/>
                </a:moveTo>
                <a:lnTo>
                  <a:pt x="53993" y="0"/>
                </a:lnTo>
                <a:lnTo>
                  <a:pt x="53993" y="21600"/>
                </a:lnTo>
                <a:lnTo>
                  <a:pt x="0" y="21600"/>
                </a:lnTo>
                <a:close/>
              </a:path>
              <a:path fill="lightenLess" w="53993" h="21600">
                <a:moveTo>
                  <a:pt x="0" y="0"/>
                </a:moveTo>
                <a:lnTo>
                  <a:pt x="53993" y="0"/>
                </a:lnTo>
                <a:lnTo>
                  <a:pt x="52593" y="1400"/>
                </a:lnTo>
                <a:lnTo>
                  <a:pt x="1400" y="1400"/>
                </a:lnTo>
                <a:close/>
              </a:path>
              <a:path fill="darken" w="53993" h="21600">
                <a:moveTo>
                  <a:pt x="53993" y="0"/>
                </a:moveTo>
                <a:lnTo>
                  <a:pt x="53993" y="21600"/>
                </a:lnTo>
                <a:lnTo>
                  <a:pt x="52593" y="20200"/>
                </a:lnTo>
                <a:lnTo>
                  <a:pt x="52593" y="1400"/>
                </a:lnTo>
                <a:close/>
              </a:path>
              <a:path fill="darkenLess" w="53993" h="21600">
                <a:moveTo>
                  <a:pt x="5399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3" y="20200"/>
                </a:lnTo>
                <a:close/>
              </a:path>
              <a:path fill="lighten" w="5399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rbel"/>
              </a:rPr>
              <a:t>Winter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5" name="Flowchart: Process 2"/>
          <p:cNvSpPr/>
          <p:nvPr/>
        </p:nvSpPr>
        <p:spPr>
          <a:xfrm>
            <a:off x="4114800" y="457200"/>
            <a:ext cx="4305240" cy="1600200"/>
          </a:xfrm>
          <a:prstGeom prst="flowChartProcess">
            <a:avLst/>
          </a:prstGeom>
          <a:solidFill>
            <a:srgbClr val="7fd13b"/>
          </a:solidFill>
          <a:ln w="127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orbel"/>
              </a:rPr>
              <a:t>Summer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96" name="Picture 3" descr="C:\Users\DSU\AppData\Local\Microsoft\Windows\Temporary Internet Files\Content.IE5\N46ZUYAR\MP900433029[2].jpg"/>
          <p:cNvPicPr/>
          <p:nvPr/>
        </p:nvPicPr>
        <p:blipFill>
          <a:blip r:embed="rId2"/>
          <a:stretch/>
        </p:blipFill>
        <p:spPr>
          <a:xfrm>
            <a:off x="1143000" y="450720"/>
            <a:ext cx="2514600" cy="2857680"/>
          </a:xfrm>
          <a:prstGeom prst="rect">
            <a:avLst/>
          </a:prstGeom>
          <a:ln w="0">
            <a:noFill/>
          </a:ln>
        </p:spPr>
      </p:pic>
      <p:sp>
        <p:nvSpPr>
          <p:cNvPr id="2297" name="Action Button: Forward or Next 1">
            <a:hlinkClick r:id="" action="ppaction://hlinkshowjump?jump=nextslide"/>
          </p:cNvPr>
          <p:cNvSpPr/>
          <p:nvPr/>
        </p:nvSpPr>
        <p:spPr>
          <a:xfrm>
            <a:off x="3924360" y="3581280"/>
            <a:ext cx="1485720" cy="723960"/>
          </a:xfrm>
          <a:custGeom>
            <a:avLst/>
            <a:gdLst>
              <a:gd name="textAreaLeft" fmla="*/ 46800 w 1485720"/>
              <a:gd name="textAreaRight" fmla="*/ 1438920 w 1485720"/>
              <a:gd name="textAreaTop" fmla="*/ 46800 h 723960"/>
              <a:gd name="textAreaBottom" fmla="*/ 677160 h 723960"/>
            </a:gdLst>
            <a:ahLst/>
            <a:rect l="textAreaLeft" t="textAreaTop" r="textAreaRight" b="textAreaBottom"/>
            <a:pathLst>
              <a:path w="44317" h="21600">
                <a:moveTo>
                  <a:pt x="0" y="0"/>
                </a:moveTo>
                <a:lnTo>
                  <a:pt x="44317" y="0"/>
                </a:lnTo>
                <a:lnTo>
                  <a:pt x="44317" y="21600"/>
                </a:lnTo>
                <a:lnTo>
                  <a:pt x="0" y="21600"/>
                </a:lnTo>
                <a:close/>
              </a:path>
              <a:path fill="lightenLess" w="44317" h="21600">
                <a:moveTo>
                  <a:pt x="0" y="0"/>
                </a:moveTo>
                <a:lnTo>
                  <a:pt x="44317" y="0"/>
                </a:lnTo>
                <a:lnTo>
                  <a:pt x="42917" y="1400"/>
                </a:lnTo>
                <a:lnTo>
                  <a:pt x="1400" y="1400"/>
                </a:lnTo>
                <a:close/>
              </a:path>
              <a:path fill="darken" w="44317" h="21600">
                <a:moveTo>
                  <a:pt x="44317" y="0"/>
                </a:moveTo>
                <a:lnTo>
                  <a:pt x="44317" y="21600"/>
                </a:lnTo>
                <a:lnTo>
                  <a:pt x="42917" y="20200"/>
                </a:lnTo>
                <a:lnTo>
                  <a:pt x="42917" y="1400"/>
                </a:lnTo>
                <a:close/>
              </a:path>
              <a:path fill="darkenLess" w="44317" h="21600">
                <a:moveTo>
                  <a:pt x="44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917" y="20200"/>
                </a:lnTo>
                <a:close/>
              </a:path>
              <a:path fill="lighten" w="44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317" h="21600">
                <a:moveTo>
                  <a:pt x="15152" y="3794"/>
                </a:moveTo>
                <a:lnTo>
                  <a:pt x="29165" y="10800"/>
                </a:lnTo>
                <a:lnTo>
                  <a:pt x="15152" y="17806"/>
                </a:lnTo>
                <a:close/>
              </a:path>
            </a:pathLst>
          </a:cu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2T16:07:10Z</dcterms:created>
  <dc:creator>jim luther</dc:creator>
  <dc:description/>
  <dc:language>en-US</dc:language>
  <cp:lastModifiedBy>Windows User</cp:lastModifiedBy>
  <dcterms:modified xsi:type="dcterms:W3CDTF">2011-10-31T02:42:54Z</dcterms:modified>
  <cp:revision>87</cp:revision>
  <dc:subject/>
  <dc:title>No Slide Title</dc:title>
</cp:coreProperties>
</file>